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336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9080" y="739440"/>
            <a:ext cx="49435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3240" y="4692600"/>
            <a:ext cx="4975200" cy="444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664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3360" y="938664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364D69-3921-40BA-9EA9-A26F73222E2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4C6902D-06AB-4551-8CD5-81EFF8A3130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03240" y="4692600"/>
            <a:ext cx="497520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16: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843360" y="938700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0182498-94A6-4B74-9021-E84CF6205ED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3240" y="4692600"/>
            <a:ext cx="497520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633-18AA-49C3-AB95-5859009A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CD0-89E5-4A72-BB06-9E33D56C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BAF-F498-49F1-AF1B-DAB1DC819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520-3B12-44B6-9C49-AD445AFB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D142-EEC9-4C99-98BA-45D18B6C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1A5-D66D-49BE-A4CC-D29F36FA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88F-6D67-4C3E-B27C-BE13F70B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906-1E51-429E-BCF8-91D65B9D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26C-2669-4844-8223-C6B98294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3B7E-43F6-4C3C-AE6C-D1844F2F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B45D-DC1B-4E3E-94E3-93447B36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60B-8B21-4022-8D6E-D30F4D14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2356-76E9-4700-839E-2422FCDEE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754200" y="606600"/>
          <a:ext cx="808992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06600"/>
                    <a:ext cx="808992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603360" y="620640"/>
          <a:ext cx="8202600" cy="579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202600" cy="579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603360" y="620640"/>
          <a:ext cx="81057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1057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603360" y="620640"/>
          <a:ext cx="8034120" cy="57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60" y="620640"/>
                    <a:ext cx="8034120" cy="57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612720" y="506520"/>
          <a:ext cx="819324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506520"/>
                    <a:ext cx="819324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762120" y="546120"/>
          <a:ext cx="7924680" cy="589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46120"/>
                    <a:ext cx="792468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465120" y="612720"/>
          <a:ext cx="8383680" cy="591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5120" y="612720"/>
                    <a:ext cx="8383680" cy="59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606600" y="642960"/>
          <a:ext cx="8188200" cy="55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42960"/>
                    <a:ext cx="8188200" cy="55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479520" y="595440"/>
          <a:ext cx="846936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595440"/>
                    <a:ext cx="846936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1026"/>
          <p:cNvGraphicFramePr/>
          <p:nvPr/>
        </p:nvGraphicFramePr>
        <p:xfrm>
          <a:off x="488880" y="390600"/>
          <a:ext cx="822024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880" y="390600"/>
                    <a:ext cx="822024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519120" y="469800"/>
          <a:ext cx="8474040" cy="612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69800"/>
                    <a:ext cx="8474040" cy="612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853920" y="531720"/>
          <a:ext cx="7718760" cy="586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718760" cy="586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596880" y="596880"/>
          <a:ext cx="8242200" cy="591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880" y="596880"/>
                    <a:ext cx="82422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92280" y="568440"/>
          <a:ext cx="8226360" cy="601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68440"/>
                    <a:ext cx="8226360" cy="60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606600" y="619200"/>
          <a:ext cx="832464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19200"/>
                    <a:ext cx="832464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593640" y="557280"/>
          <a:ext cx="828828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28828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420840" y="803160"/>
          <a:ext cx="8288280" cy="520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803160"/>
                    <a:ext cx="8288280" cy="52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642960" y="593640"/>
          <a:ext cx="791676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93640"/>
                    <a:ext cx="791676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13:33:49Z</dcterms:created>
  <dc:creator>jalvarez</dc:creator>
  <dc:description/>
  <dc:language>en-US</dc:language>
  <cp:lastModifiedBy>nbaloian</cp:lastModifiedBy>
  <cp:lastPrinted>2006-05-09T15:34:00Z</cp:lastPrinted>
  <dcterms:modified xsi:type="dcterms:W3CDTF">2010-05-13T22:13:41Z</dcterms:modified>
  <cp:revision>25</cp:revision>
  <dc:subject/>
  <dc:title>Sin título de diapositiva</dc:title>
</cp:coreProperties>
</file>