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944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E18DE1-AD35-4CD9-A8D6-F790EB699A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F8D32C-3AC5-4309-BBB7-2556260F29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EA64BF-0C56-482D-B477-31B01ED76B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118-6472-4ABE-ABD7-9CAD3569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269-7252-498F-A552-2C7D6D1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58D-5E00-42EF-9F9F-C65D67A3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0FD-88C9-4172-B8E0-24E0E0B9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E84-B71B-4374-8109-E57BDFB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BA8-37A8-4232-BCE9-079E81C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379-DA20-47A0-86D7-BD83052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F4F-9C0B-4ECE-B231-9B7F8409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CE2-559F-4396-8351-9AD78EC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CCA-1C72-40D1-82D6-44ED37A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429-95A0-4542-BD39-1DA7653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C3F-0784-4F0C-ABDA-4FC0A7B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84A1-EC8C-4E87-9368-6CF987EA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26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nbaloian</cp:lastModifiedBy>
  <cp:lastPrinted>2006-05-09T15:34:00Z</cp:lastPrinted>
  <dcterms:modified xsi:type="dcterms:W3CDTF">2010-05-13T22:13:41Z</dcterms:modified>
  <cp:revision>25</cp:revision>
  <dc:subject/>
  <dc:title>Sin título de diapositiva</dc:title>
</cp:coreProperties>
</file>