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560" y="694800"/>
            <a:ext cx="4638600" cy="348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698A-83CD-44A9-8C04-5694EECE96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 Marcador de encabezado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5 Marcador de número de diapositiva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48CB-96AC-4FB6-8AD0-933C3FD4DC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EE43-B0DA-4352-9BF6-A9DBB1AFD4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17: Arreglos 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625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66D0-722A-4E43-A951-886E3C2159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367-1616-451A-BD65-A4A9BBEC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E1A-1FF0-4D88-A549-027A4C0C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DC0-7B78-4F99-B18B-3A64BD19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194-48E1-4C07-AE2E-6247B4DD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C1E-46A0-40CF-A25D-5BB72CB4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A2D-5905-4460-9821-2A1F8D67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B51-E738-4D38-9029-A989E238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2B8-DBF4-4E36-A452-5446EB5D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AAE-735A-4C1D-B7E2-211DEB0E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043-0349-4FA6-AF97-7448A5E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AC7-BADF-43A7-ADD3-AC2C844A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B76-291E-42AA-B1DF-F84DF1F7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6156-D0B2-4F86-8392-DFC6B37B6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5"/>
          <p:cNvGraphicFramePr/>
          <p:nvPr/>
        </p:nvGraphicFramePr>
        <p:xfrm>
          <a:off x="630360" y="479520"/>
          <a:ext cx="7980120" cy="672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79520"/>
                    <a:ext cx="798012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509760" y="482760"/>
          <a:ext cx="8346960" cy="611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346960" cy="61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509760" y="482760"/>
          <a:ext cx="8229600" cy="63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82760"/>
                    <a:ext cx="8229600" cy="63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477720" y="461880"/>
          <a:ext cx="8367840" cy="64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1880"/>
                    <a:ext cx="836784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01760" y="461880"/>
          <a:ext cx="8161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461880"/>
                    <a:ext cx="8161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Line 5"/>
          <p:cNvSpPr/>
          <p:nvPr/>
        </p:nvSpPr>
        <p:spPr>
          <a:xfrm>
            <a:off x="248436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48436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"/>
          <p:cNvSpPr/>
          <p:nvPr/>
        </p:nvSpPr>
        <p:spPr>
          <a:xfrm>
            <a:off x="255600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03360" y="376200"/>
          <a:ext cx="8161200" cy="661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376200"/>
                    <a:ext cx="8161200" cy="66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5"/>
          <p:cNvSpPr/>
          <p:nvPr/>
        </p:nvSpPr>
        <p:spPr>
          <a:xfrm flipV="1">
            <a:off x="450072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5796000" y="450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573120" y="495360"/>
          <a:ext cx="8143920" cy="79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495360"/>
                    <a:ext cx="8143920" cy="79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nbaloian</cp:lastModifiedBy>
  <cp:lastPrinted>2006-05-19T15:19:42Z</cp:lastPrinted>
  <dcterms:modified xsi:type="dcterms:W3CDTF">2010-05-24T13:45:10Z</dcterms:modified>
  <cp:revision>41</cp:revision>
  <dc:subject/>
  <dc:title>Sin título de diapositiva</dc:title>
</cp:coreProperties>
</file>