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560" y="694800"/>
            <a:ext cx="463860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D67-CEE9-43AB-8C84-76BA2FF27D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D2B-5B8E-47E5-9414-B32E170829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C12-228B-44A7-9E5C-9F834B3D1B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B01-CC69-4074-B7EE-8AD3029594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326-E654-4726-B570-2C554B1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4ED-E241-4A33-91F6-3100659E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6DB-F444-4DB2-BB79-01C376BD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A4A-F101-4B03-8E64-51C87DF3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11F-301F-4328-8AD8-03CC83F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CAC-94A3-4F4C-BC49-44ACDA8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CEA-C967-4F77-A794-7E8254A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34F-94AB-4E8B-912D-2255938E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B9A-9C8B-45BC-80E5-4F897E8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374-ECBA-4AC9-A940-8189417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FD4-DCF5-4ABB-811F-7CDEDD6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73D-CD34-4EF4-85F5-2F74E8F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844B-0C87-456A-A659-8C178B029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5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5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03360" y="376200"/>
          <a:ext cx="8161200" cy="661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376200"/>
                    <a:ext cx="816120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nbaloian</cp:lastModifiedBy>
  <cp:lastPrinted>2006-05-19T15:19:42Z</cp:lastPrinted>
  <dcterms:modified xsi:type="dcterms:W3CDTF">2010-05-24T13:45:10Z</dcterms:modified>
  <cp:revision>41</cp:revision>
  <dc:subject/>
  <dc:title>Sin título de diapositiva</dc:title>
</cp:coreProperties>
</file>