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17: Arreglos de Obje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560" y="694800"/>
            <a:ext cx="4638600" cy="348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13520"/>
            <a:ext cx="30304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13520"/>
            <a:ext cx="30304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D423-3D30-48DC-A364-BAB5FB780D3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3 Marcador de encabezado"/>
          <p:cNvSpPr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17: Arreglos de Obje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5 Marcador de número de diapositiva"/>
          <p:cNvSpPr/>
          <p:nvPr/>
        </p:nvSpPr>
        <p:spPr>
          <a:xfrm>
            <a:off x="3962520" y="8813880"/>
            <a:ext cx="3030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53D2-3D2A-4B69-ABE0-EF9FD0B732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17: Arreglos de Obje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962520" y="8813880"/>
            <a:ext cx="3030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9C62-4149-48C5-A2F2-047530E18A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17: Arreglos de Obje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62520" y="8813880"/>
            <a:ext cx="3030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D926-FCC3-4C2F-9593-E4C6A12E96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838-953A-47C2-8E63-1CD27076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B8D-E87D-47C2-A1E9-38E478A8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352-B720-4E81-B0FB-D259586A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E1D-D864-4923-BD43-D06B0A20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A9E-658D-4408-A7B4-A3F0ADEB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442-2D22-4B36-AD71-38F79EAE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730-B5F1-4F68-9A68-B718BCC3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B93-7E1F-45FE-9A93-44B17EDF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ED2-326E-4C43-9F29-D6AF75B9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DA69-F742-4F56-A5DD-B7C08FD9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5F28-2D40-4C84-A91D-7B21D076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5E0-8682-48F6-ACBD-0294882D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0BC3-0C85-44CC-9E48-313499502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4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5"/>
          <p:cNvGraphicFramePr/>
          <p:nvPr/>
        </p:nvGraphicFramePr>
        <p:xfrm>
          <a:off x="630360" y="479520"/>
          <a:ext cx="7980120" cy="6729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360" y="479520"/>
                    <a:ext cx="7980120" cy="67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635040" y="571680"/>
          <a:ext cx="814068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571680"/>
                    <a:ext cx="814068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31640" y="495360"/>
          <a:ext cx="8560080" cy="636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95360"/>
                    <a:ext cx="8560080" cy="63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509760" y="482760"/>
          <a:ext cx="8346960" cy="611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82760"/>
                    <a:ext cx="8346960" cy="61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507960" y="482760"/>
          <a:ext cx="83440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507960" y="482760"/>
          <a:ext cx="8344080" cy="64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4"/>
          <p:cNvGraphicFramePr/>
          <p:nvPr/>
        </p:nvGraphicFramePr>
        <p:xfrm>
          <a:off x="509760" y="482760"/>
          <a:ext cx="8229600" cy="638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82760"/>
                    <a:ext cx="8229600" cy="63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4"/>
          <p:cNvGraphicFramePr/>
          <p:nvPr/>
        </p:nvGraphicFramePr>
        <p:xfrm>
          <a:off x="477720" y="461880"/>
          <a:ext cx="8367840" cy="648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461880"/>
                    <a:ext cx="8367840" cy="64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403200" y="457200"/>
          <a:ext cx="81900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57200"/>
                    <a:ext cx="81900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685800" y="550800"/>
          <a:ext cx="828360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50800"/>
                    <a:ext cx="828360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401760" y="461880"/>
          <a:ext cx="81612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60" y="461880"/>
                    <a:ext cx="81612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Line 5"/>
          <p:cNvSpPr/>
          <p:nvPr/>
        </p:nvSpPr>
        <p:spPr>
          <a:xfrm>
            <a:off x="2484360" y="3716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6"/>
          <p:cNvSpPr/>
          <p:nvPr/>
        </p:nvSpPr>
        <p:spPr>
          <a:xfrm>
            <a:off x="248436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7"/>
          <p:cNvSpPr/>
          <p:nvPr/>
        </p:nvSpPr>
        <p:spPr>
          <a:xfrm>
            <a:off x="2556000" y="472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603360" y="376200"/>
          <a:ext cx="8161200" cy="661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376200"/>
                    <a:ext cx="8161200" cy="661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Line 5"/>
          <p:cNvSpPr/>
          <p:nvPr/>
        </p:nvSpPr>
        <p:spPr>
          <a:xfrm flipV="1">
            <a:off x="450072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 flipV="1">
            <a:off x="5796000" y="450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573120" y="495360"/>
          <a:ext cx="8143920" cy="796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495360"/>
                    <a:ext cx="8143920" cy="79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622440" y="431640"/>
          <a:ext cx="8305560" cy="608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431640"/>
                    <a:ext cx="8305560" cy="608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495360" y="444600"/>
          <a:ext cx="8534520" cy="64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44600"/>
                    <a:ext cx="8534520" cy="64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324000" y="9349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grabar n líneas en orden inve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Writer b=new PrintWrit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ileWriter(archivo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n-1; i&gt;=0; --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println( lineas[i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nbaloian</cp:lastModifiedBy>
  <cp:lastPrinted>2006-05-19T15:19:42Z</cp:lastPrinted>
  <dcterms:modified xsi:type="dcterms:W3CDTF">2010-05-24T13:45:10Z</dcterms:modified>
  <cp:revision>41</cp:revision>
  <dc:subject/>
  <dc:title>Sin título de diapositiva</dc:title>
</cp:coreProperties>
</file>