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560" y="694800"/>
            <a:ext cx="463860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1A60-7C51-4A2F-A75A-CF2C57FC3C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973-F0FC-4FCF-994F-BACFC28634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BE67-1308-442E-9842-02288C1AA3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94E-DFEB-4ACB-8827-64B9C09A56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DC3-9586-418A-BB2F-5C370A15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D71-32DA-43EB-AF48-7FA5E571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04D-232A-4ADD-ABBF-7BA6AE4D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AC9-235B-41C7-9455-64521EEF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ABD-5908-4283-9AA0-17930052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982-8D56-4903-93D1-3DF9DBE4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7EF-8AF2-4F67-A960-A1C59B7C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B70-A352-405B-88ED-E18D90E3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62F-38DD-4A20-BAA7-5C0A20E5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DF4-72D7-4616-88C3-48D26AAB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39F-86F9-46A8-B38F-77202D6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FA4-02A7-426D-A725-E49FFF3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7B8-840D-4E49-A051-59F79F5C9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5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5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03360" y="376200"/>
          <a:ext cx="8161200" cy="661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376200"/>
                    <a:ext cx="816120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nbaloian</cp:lastModifiedBy>
  <cp:lastPrinted>2006-05-19T15:19:42Z</cp:lastPrinted>
  <dcterms:modified xsi:type="dcterms:W3CDTF">2010-05-24T13:45:10Z</dcterms:modified>
  <cp:revision>41</cp:revision>
  <dc:subject/>
  <dc:title>Sin título de diapositiva</dc:title>
</cp:coreProperties>
</file>