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3E69-E8EF-46BA-9EA8-5A744F9671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3 Marcador de encabezado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5 Marcador de número de diapositiva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EC6F-FE2D-4D21-A5C2-C7C4A2032E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A078-6328-4154-8235-AEFE712789C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E0A4-7D37-49A9-A60D-72ACCC0F509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4: Repaso/Resumen P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1E66-1B65-4831-B500-78808C72172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F13-E980-4B37-B5AD-3A970FCD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FD03-8BBD-4530-BCE9-C5A1C6DF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5C80-34A3-434A-B5B9-EB967D83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5F7E-4DAC-486D-B7D5-8DF19A32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188-354B-4889-886F-7A3C1661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C71-650F-43B5-BE0B-8E5ADB20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A71-77AE-4740-982A-51A548A7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5456-B3D9-4B1E-96A8-E98FFC32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90D7-E26B-473C-86A5-C995AD3C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775-2EBB-4A00-A43A-2A1078F5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E256-034A-447B-8900-89BCBCE3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E61-AE8F-4126-93FE-D97A54DE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1EDB-CDE5-4256-80AC-793E92AD2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4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4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4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4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57120" y="928800"/>
            <a:ext cx="842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import java.util.*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Scanner kb=new Scanner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String linea=kb.nextLine(); //nextTipo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Line 103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4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05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06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07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108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9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0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11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12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13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4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15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16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4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nbaloian</cp:lastModifiedBy>
  <cp:lastPrinted>2006-04-13T19:29:55Z</cp:lastPrinted>
  <dcterms:modified xsi:type="dcterms:W3CDTF">2010-05-10T15:47:45Z</dcterms:modified>
  <cp:revision>57</cp:revision>
  <dc:subject/>
  <dc:title>Sin título de diapositiva</dc:title>
</cp:coreProperties>
</file>