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CED9-0B54-41DD-970E-074A1AD722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encabezado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5 Marcador de número de diapositiva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064-0392-45AA-8F63-C0E64D5F90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1193-B8A0-4D37-8A05-ECBC57F397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EE60-EE83-42BC-8A91-E19E4ACEA3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2F06-0966-4D48-B774-5F980E186F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291-AF12-4210-87D0-0E6BC97C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3E7-D235-4668-974F-87AACEFE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D89-8AA6-43B6-803A-6F3B2E39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C7C-DDFB-4022-8B60-A9A0448F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C35-011D-4E09-84AA-54D87E11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447-183E-43CC-8B6C-BDC422E8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EA9-68CD-4F5A-9356-13AB7A4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DD1-18AB-495A-9D8D-0C5665BF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1AD-1A5A-4E19-B28D-461443D4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EC0-BA84-4858-BEB6-1B65158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229-7781-4915-AD51-C7C59E64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A71-CCCF-46E7-BA7E-CDE2725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E9BE-5A0A-4316-9BFD-3FE2EA567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57120" y="928800"/>
            <a:ext cx="842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import java.util.*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Scanner kb=new Scanner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String linea=kb.nextLine(); //nextTipo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Line 103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4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5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6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7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08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9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0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1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2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13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4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5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16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nbaloian</cp:lastModifiedBy>
  <cp:lastPrinted>2006-04-13T19:29:55Z</cp:lastPrinted>
  <dcterms:modified xsi:type="dcterms:W3CDTF">2010-05-10T15:47:45Z</dcterms:modified>
  <cp:revision>57</cp:revision>
  <dc:subject/>
  <dc:title>Sin título de diapositiva</dc:title>
</cp:coreProperties>
</file>