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8753-8095-48C2-9144-5B0E48CFD1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encabezado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5 Marcador de número de diapositiva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226F-A847-451A-A2F7-8E977D223C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269E-37A8-4FDF-B23F-52C442A4F3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FABC-5C6E-47F9-A894-D134C1DB7D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F7EE-9032-447E-914F-C6A7CC55A7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F12-451A-43E8-82A4-649E60BD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278-A666-4840-ACE1-9283F16E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DE9-B304-470A-837E-A5AF0FA5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610-5F30-4C7D-AF90-93C8A7C6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148-F11B-4A49-8818-3BFB6FE5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0C8-EFF7-4FFA-8632-835B3016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C92-022D-44D3-9CDB-14BC34F5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FEE-66DC-4FB8-BEA7-0F159E80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43D-CDE8-42B4-ADC3-D8F94199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B2A-B35B-41FE-9F44-9B72A175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2C8-711E-4B55-A53D-8DF6C8CD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BBA-5CB9-465A-A62A-3439279F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D6C1-6F44-411F-81CB-DA2C3C6E6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57120" y="928800"/>
            <a:ext cx="842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import java.util.*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Scanner kb=new Scanner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String linea=kb.nextLine(); //nextTipo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Line 103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4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5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6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7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08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9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0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1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2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13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4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5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16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nbaloian</cp:lastModifiedBy>
  <cp:lastPrinted>2006-04-13T19:29:55Z</cp:lastPrinted>
  <dcterms:modified xsi:type="dcterms:W3CDTF">2010-05-10T15:47:45Z</dcterms:modified>
  <cp:revision>57</cp:revision>
  <dc:subject/>
  <dc:title>Sin título de diapositiva</dc:title>
</cp:coreProperties>
</file>