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3C2E-8CA8-42AE-A95B-2D81EE74B6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3 Marcador de encabezado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5 Marcador de número de diapositiva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4CAB-5000-47C9-AA88-50B696D1350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A7D0-D681-4006-A753-DDDB8DB5369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A857-A8D3-4847-9C5D-E993DC4AE4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D4EC-A7A5-4019-AF09-F037D9FAE3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118-ABD7-42E7-8763-03F02AD0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326-FBF5-40E4-8B5E-4B2316A9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324-05F7-4770-AE15-21FF5FB0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09E-FAAD-405A-8655-05F6C5D6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D02-2A02-456B-9503-0516CC96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B95-4FA7-490B-A7C2-9F6BCF8F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AE9-78E3-48D1-9EB5-156EAC1C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B83-6C95-4736-BA8F-C2B8FBB1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90A-ADE5-4E33-8F8B-F6CB3262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D81-A78B-4CEE-B530-0319B69A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44A-A5E1-4B0E-861B-3EA63483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709-91F6-489B-B2DE-32FF11F4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0079-223D-4F66-A5A7-22807E673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523800" y="565200"/>
          <a:ext cx="798840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5200"/>
                    <a:ext cx="798840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4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4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5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4"/>
          <p:cNvGraphicFramePr/>
          <p:nvPr/>
        </p:nvGraphicFramePr>
        <p:xfrm>
          <a:off x="390600" y="417600"/>
          <a:ext cx="85248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5248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4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419040" y="482760"/>
          <a:ext cx="849636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2760"/>
                    <a:ext cx="849636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592200" y="309600"/>
          <a:ext cx="8431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09600"/>
                    <a:ext cx="8431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4"/>
          <p:cNvGraphicFramePr/>
          <p:nvPr/>
        </p:nvGraphicFramePr>
        <p:xfrm>
          <a:off x="417600" y="390600"/>
          <a:ext cx="8497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90600"/>
                    <a:ext cx="8497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4"/>
          <p:cNvGraphicFramePr/>
          <p:nvPr/>
        </p:nvGraphicFramePr>
        <p:xfrm>
          <a:off x="355680" y="380880"/>
          <a:ext cx="867420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0880"/>
                    <a:ext cx="867420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469800" y="349200"/>
          <a:ext cx="88488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9200"/>
                    <a:ext cx="88488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79280" y="4244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perandos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double op1,op2; private char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actionPerformed(ActionEvent x)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//obtener bo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 b=(Button)x.getSour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primer caracter de texto del bot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har c=b.getLabel().charA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tender boton (y actualizar vi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//nuevo contenido de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c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Q': System.exi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C': s="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S': s="-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.': s=visor.getText()+".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default:  s=visor.getText()+c; break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24000" y="189000"/>
            <a:ext cx="8496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+' : case '-': case '*': case '/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guardar primer operando y operac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1=Double.parseDouble(visor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=c; s=“”; break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=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realizar operación entre operand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2=Double.parseDouble(visor.getText(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witch(op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+': op1+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-': op1-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*': op1*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/': op1/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=""+op1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ctualizar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or.setText(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349200" y="484200"/>
          <a:ext cx="87552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84200"/>
                    <a:ext cx="87552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de tex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57120" y="928800"/>
            <a:ext cx="842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c=0, nl=0; String line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.println(linea); ++nl; nc+=linea.lengt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ta. ¿Sin usar clase 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import java.util.*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Scanner kb=new Scanner(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.print(“input?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String linea=kb.nextLine(); //nextTipo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Line 103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04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05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06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07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08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9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0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1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12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13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14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5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16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84200" y="496800"/>
          <a:ext cx="8350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96800"/>
                    <a:ext cx="8350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nbaloian</cp:lastModifiedBy>
  <cp:lastPrinted>2006-04-13T19:29:55Z</cp:lastPrinted>
  <dcterms:modified xsi:type="dcterms:W3CDTF">2010-05-10T15:47:45Z</dcterms:modified>
  <cp:revision>57</cp:revision>
  <dc:subject/>
  <dc:title>Sin título de diapositiva</dc:title>
</cp:coreProperties>
</file>