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204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080" y="-360"/>
            <a:ext cx="3003480" cy="48276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71440" y="674280"/>
            <a:ext cx="4632480" cy="34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080" y="8778960"/>
            <a:ext cx="3003480" cy="482400"/>
          </a:xfrm>
          <a:prstGeom prst="rect">
            <a:avLst/>
          </a:prstGeom>
          <a:noFill/>
          <a:ln w="0">
            <a:noFill/>
          </a:ln>
        </p:spPr>
        <p:txBody>
          <a:bodyPr lIns="115200" rIns="115200" tIns="57600" bIns="57600" anchor="b">
            <a:noAutofit/>
          </a:bodyPr>
          <a:lstStyle>
            <a:lvl1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  <a:defRPr b="0" lang="es-ES_tradnl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fld id="{685E6B22-0D21-488A-AE2C-B3AAE59FADEF}" type="slidenum"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71440" y="674640"/>
            <a:ext cx="4632480" cy="347364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68040" y="4436640"/>
            <a:ext cx="513396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3 Marcador de encabezado"/>
          <p:cNvSpPr/>
          <p:nvPr/>
        </p:nvSpPr>
        <p:spPr>
          <a:xfrm>
            <a:off x="0" y="0"/>
            <a:ext cx="300204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t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r>
              <a:rPr b="0" lang="es-ES_tradnl" sz="1500" spc="-1" strike="noStrike">
                <a:solidFill>
                  <a:srgbClr val="000000"/>
                </a:solidFill>
                <a:latin typeface="Times New Roman"/>
              </a:rPr>
              <a:t>Clase 13: Dibujos y Gráfico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4 Marcador de pie de página"/>
          <p:cNvSpPr/>
          <p:nvPr/>
        </p:nvSpPr>
        <p:spPr>
          <a:xfrm>
            <a:off x="0" y="8778960"/>
            <a:ext cx="300204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5200" rIns="115200" tIns="57600" bIns="57600" anchor="b">
            <a:noAutofit/>
          </a:bodyPr>
          <a:p>
            <a:pPr>
              <a:tabLst>
                <a:tab algn="l" pos="0"/>
                <a:tab algn="l" pos="1152360"/>
                <a:tab algn="l" pos="2305080"/>
                <a:tab algn="l" pos="3457440"/>
                <a:tab algn="l" pos="4610160"/>
                <a:tab algn="l" pos="5762520"/>
                <a:tab algn="l" pos="6915240"/>
                <a:tab algn="l" pos="8067600"/>
                <a:tab algn="l" pos="9220320"/>
                <a:tab algn="l" pos="10372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84D7-99D6-4A2F-A9CB-E7B687D6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310-F6CD-453F-85B8-580D4AC40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1E4F-3256-48CF-9CBD-0DD3ED6DC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765F-4351-4DF7-BF57-3D3D7075A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C0C6-22EF-4CE0-9163-502740EE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BF05-458E-4B06-8D02-9F7AD352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5079-39B8-448E-8F99-219CEA0E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F4DE-DE4A-47CC-9154-285D053E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B814-89AA-44B3-997A-1E0BAD307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23FD-3FA1-426C-A055-1209ADDC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6155-D0DA-42DE-AAAF-4E3ED05DB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2087-66F5-4316-AAE6-FF314D2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DD26F-AB4B-4E80-AA83-D99C9B860E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1200240" y="692280"/>
          <a:ext cx="7013520" cy="533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692280"/>
                    <a:ext cx="7013520" cy="533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Object 2"/>
          <p:cNvGraphicFramePr/>
          <p:nvPr/>
        </p:nvGraphicFramePr>
        <p:xfrm>
          <a:off x="495360" y="655560"/>
          <a:ext cx="8472600" cy="586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655560"/>
                    <a:ext cx="8472600" cy="586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Object 4"/>
          <p:cNvGraphicFramePr/>
          <p:nvPr/>
        </p:nvGraphicFramePr>
        <p:xfrm>
          <a:off x="878040" y="544680"/>
          <a:ext cx="7459560" cy="566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544680"/>
                    <a:ext cx="7459560" cy="566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Conversión de coordenad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85800" y="1981080"/>
          <a:ext cx="7772400" cy="3429000"/>
        </p:xfrm>
        <a:graphic>
          <a:graphicData uri="http://schemas.openxmlformats.org/drawingml/2006/table">
            <a:tbl>
              <a:tblPr/>
              <a:tblGrid>
                <a:gridCol w="1149480"/>
                <a:gridCol w="2736720"/>
                <a:gridCol w="1295280"/>
                <a:gridCol w="259092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rizon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ic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/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 (x+100)/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=x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 - H y/1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Object 4"/>
          <p:cNvGraphicFramePr/>
          <p:nvPr/>
        </p:nvGraphicFramePr>
        <p:xfrm>
          <a:off x="619200" y="469800"/>
          <a:ext cx="832464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469800"/>
                    <a:ext cx="832464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Object 4"/>
          <p:cNvGraphicFramePr/>
          <p:nvPr/>
        </p:nvGraphicFramePr>
        <p:xfrm>
          <a:off x="392040" y="417600"/>
          <a:ext cx="8699400" cy="7432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040" y="417600"/>
                    <a:ext cx="8699400" cy="743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Object 4"/>
          <p:cNvGraphicFramePr/>
          <p:nvPr/>
        </p:nvGraphicFramePr>
        <p:xfrm>
          <a:off x="534960" y="469800"/>
          <a:ext cx="8399520" cy="667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469800"/>
                    <a:ext cx="8399520" cy="667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4"/>
          <p:cNvGraphicFramePr/>
          <p:nvPr/>
        </p:nvGraphicFramePr>
        <p:xfrm>
          <a:off x="255600" y="363600"/>
          <a:ext cx="87138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600" y="363600"/>
                    <a:ext cx="87138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Object 4"/>
          <p:cNvGraphicFramePr/>
          <p:nvPr/>
        </p:nvGraphicFramePr>
        <p:xfrm>
          <a:off x="368280" y="393840"/>
          <a:ext cx="8470800" cy="64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8280" y="393840"/>
                    <a:ext cx="8470800" cy="64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Object 4"/>
          <p:cNvGraphicFramePr/>
          <p:nvPr/>
        </p:nvGraphicFramePr>
        <p:xfrm>
          <a:off x="668160" y="495360"/>
          <a:ext cx="78170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495360"/>
                    <a:ext cx="78170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4"/>
          <p:cNvGraphicFramePr/>
          <p:nvPr/>
        </p:nvGraphicFramePr>
        <p:xfrm>
          <a:off x="417600" y="444600"/>
          <a:ext cx="8609040" cy="67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7600" y="444600"/>
                    <a:ext cx="8609040" cy="67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485640" y="463680"/>
          <a:ext cx="8263080" cy="6670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463680"/>
                    <a:ext cx="8263080" cy="667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4"/>
          <p:cNvSpPr/>
          <p:nvPr/>
        </p:nvSpPr>
        <p:spPr>
          <a:xfrm>
            <a:off x="250920" y="568440"/>
            <a:ext cx="8713800" cy="46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constructor: inicializar compon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ortug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,int y,Graphics 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=x; v=y; //coordenadas ini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=0.0; //dirección horizo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=z;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//objeto gráf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actualizar angulo: sumar x (en radia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gira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int 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lfa += x*Math.PI/180;//en radia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4"/>
          <p:cNvGraphicFramePr/>
          <p:nvPr/>
        </p:nvGraphicFramePr>
        <p:xfrm>
          <a:off x="534960" y="247680"/>
          <a:ext cx="7981920" cy="662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4960" y="247680"/>
                    <a:ext cx="7981920" cy="66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0" name="Object 4"/>
          <p:cNvGraphicFramePr/>
          <p:nvPr/>
        </p:nvGraphicFramePr>
        <p:xfrm>
          <a:off x="528480" y="517680"/>
          <a:ext cx="7905960" cy="601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517680"/>
                    <a:ext cx="7905960" cy="60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Object 4"/>
          <p:cNvGraphicFramePr/>
          <p:nvPr/>
        </p:nvGraphicFramePr>
        <p:xfrm>
          <a:off x="874800" y="549360"/>
          <a:ext cx="7354800" cy="555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549360"/>
                    <a:ext cx="7354800" cy="55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4"/>
          <p:cNvGraphicFramePr/>
          <p:nvPr/>
        </p:nvGraphicFramePr>
        <p:xfrm>
          <a:off x="312840" y="12600"/>
          <a:ext cx="8216640" cy="663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840" y="12600"/>
                    <a:ext cx="8216640" cy="663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1063800" y="531720"/>
          <a:ext cx="721188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531720"/>
                    <a:ext cx="721188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965160" y="730080"/>
          <a:ext cx="7211880" cy="538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38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965160" y="841320"/>
          <a:ext cx="7211880" cy="5170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41320"/>
                    <a:ext cx="7211880" cy="517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Line 3"/>
          <p:cNvSpPr/>
          <p:nvPr/>
        </p:nvSpPr>
        <p:spPr>
          <a:xfrm>
            <a:off x="2819520" y="1600200"/>
            <a:ext cx="0" cy="3808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Object 2"/>
          <p:cNvGraphicFramePr/>
          <p:nvPr/>
        </p:nvGraphicFramePr>
        <p:xfrm>
          <a:off x="965160" y="730080"/>
          <a:ext cx="721188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730080"/>
                    <a:ext cx="721188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101600" y="717480"/>
          <a:ext cx="7199280" cy="5294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1600" y="717480"/>
                    <a:ext cx="7199280" cy="529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Object 2"/>
          <p:cNvGraphicFramePr/>
          <p:nvPr/>
        </p:nvGraphicFramePr>
        <p:xfrm>
          <a:off x="700200" y="530280"/>
          <a:ext cx="8218440" cy="61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0200" y="530280"/>
                    <a:ext cx="8218440" cy="61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Object 2"/>
          <p:cNvGraphicFramePr/>
          <p:nvPr/>
        </p:nvGraphicFramePr>
        <p:xfrm>
          <a:off x="779400" y="552600"/>
          <a:ext cx="7823160" cy="589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9400" y="552600"/>
                    <a:ext cx="7823160" cy="589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7T18:17:19Z</dcterms:created>
  <dc:creator>jalvarez</dc:creator>
  <dc:description/>
  <dc:language>en-US</dc:language>
  <cp:lastModifiedBy>nbaloian</cp:lastModifiedBy>
  <cp:lastPrinted>2006-04-21T23:26:38Z</cp:lastPrinted>
  <dcterms:modified xsi:type="dcterms:W3CDTF">2010-05-07T16:02:54Z</dcterms:modified>
  <cp:revision>40</cp:revision>
  <dc:subject/>
  <dc:title>Sin título de diapositiva</dc:title>
</cp:coreProperties>
</file>