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204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080" y="-360"/>
            <a:ext cx="300348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74280"/>
            <a:ext cx="4632480" cy="34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080" y="8778960"/>
            <a:ext cx="300348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lstStyle>
            <a:lvl1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  <a:defRPr b="0" lang="es-ES_tradn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fld id="{CFDB7339-6BCD-43F0-B0AE-666669E90B53}" type="slidenum"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00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b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71440" y="67464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1440" y="67464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3 Marcador de encabezado"/>
          <p:cNvSpPr/>
          <p:nvPr/>
        </p:nvSpPr>
        <p:spPr>
          <a:xfrm>
            <a:off x="0" y="0"/>
            <a:ext cx="300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b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D26-E9CB-49EC-815C-C4AC36F1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526-812C-4AC1-A85B-AF802BBE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33F-76A3-4AA2-8C73-2E2A317E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D5F-E090-48C6-87FA-28265B62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A34-D70F-4193-8DDB-5F2F1ECA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464-729E-4E79-A5A5-EEA02ECF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B9B-81CD-43C9-B558-ED43D5A4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E6B-637E-4C42-B5BC-465CE980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348-0325-47F7-9069-08F75D3A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E60-F9C9-4B76-B761-5050088A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06F-B692-46A5-8ECB-F49E05BB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BAF-FA13-4127-B81C-20DE2F55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0DB0-1E0A-4E02-8712-EFF07ED70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200240" y="692280"/>
          <a:ext cx="701352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692280"/>
                    <a:ext cx="701352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495360" y="65556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5556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878040" y="544680"/>
          <a:ext cx="7459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459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versión de coorden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1149480"/>
                <a:gridCol w="2736720"/>
                <a:gridCol w="1295280"/>
                <a:gridCol w="2590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(x+100)/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=x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- H y/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6192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392040" y="417600"/>
          <a:ext cx="8699400" cy="74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417600"/>
                    <a:ext cx="8699400" cy="74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534960" y="469800"/>
          <a:ext cx="83995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469800"/>
                    <a:ext cx="83995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255600" y="363600"/>
          <a:ext cx="87138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363600"/>
                    <a:ext cx="87138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4"/>
          <p:cNvGraphicFramePr/>
          <p:nvPr/>
        </p:nvGraphicFramePr>
        <p:xfrm>
          <a:off x="368280" y="393840"/>
          <a:ext cx="847080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93840"/>
                    <a:ext cx="847080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4"/>
          <p:cNvGraphicFramePr/>
          <p:nvPr/>
        </p:nvGraphicFramePr>
        <p:xfrm>
          <a:off x="668160" y="495360"/>
          <a:ext cx="78170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78170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417600" y="444600"/>
          <a:ext cx="8609040" cy="67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444600"/>
                    <a:ext cx="8609040" cy="67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85640" y="463680"/>
          <a:ext cx="8263080" cy="66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463680"/>
                    <a:ext cx="8263080" cy="66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250920" y="568440"/>
            <a:ext cx="87138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constructor: inicializar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rtug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int y,Graphics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=x; v=y; //coordenadas ini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fa=0.0; //dirección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=z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//objet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ir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fa += x*Math.PI/180;//en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4"/>
          <p:cNvGraphicFramePr/>
          <p:nvPr/>
        </p:nvGraphicFramePr>
        <p:xfrm>
          <a:off x="534960" y="247680"/>
          <a:ext cx="7981920" cy="662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247680"/>
                    <a:ext cx="798192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4"/>
          <p:cNvGraphicFramePr/>
          <p:nvPr/>
        </p:nvGraphicFramePr>
        <p:xfrm>
          <a:off x="528480" y="517680"/>
          <a:ext cx="79059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17680"/>
                    <a:ext cx="79059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4"/>
          <p:cNvGraphicFramePr/>
          <p:nvPr/>
        </p:nvGraphicFramePr>
        <p:xfrm>
          <a:off x="874800" y="549360"/>
          <a:ext cx="7354800" cy="55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549360"/>
                    <a:ext cx="7354800" cy="55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4"/>
          <p:cNvGraphicFramePr/>
          <p:nvPr/>
        </p:nvGraphicFramePr>
        <p:xfrm>
          <a:off x="312840" y="12600"/>
          <a:ext cx="8216640" cy="663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2600"/>
                    <a:ext cx="8216640" cy="663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63800" y="531720"/>
          <a:ext cx="721188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31720"/>
                    <a:ext cx="72118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965160" y="730080"/>
          <a:ext cx="72118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965160" y="841320"/>
          <a:ext cx="721188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41320"/>
                    <a:ext cx="7211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Line 3"/>
          <p:cNvSpPr/>
          <p:nvPr/>
        </p:nvSpPr>
        <p:spPr>
          <a:xfrm>
            <a:off x="2819520" y="16002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965160" y="730080"/>
          <a:ext cx="721188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101600" y="717480"/>
          <a:ext cx="71992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17480"/>
                    <a:ext cx="71992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700200" y="530280"/>
          <a:ext cx="8218440" cy="61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530280"/>
                    <a:ext cx="821844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779400" y="552600"/>
          <a:ext cx="7823160" cy="58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52600"/>
                    <a:ext cx="7823160" cy="58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nbaloian</cp:lastModifiedBy>
  <cp:lastPrinted>2006-04-21T23:26:38Z</cp:lastPrinted>
  <dcterms:modified xsi:type="dcterms:W3CDTF">2010-05-07T16:02:54Z</dcterms:modified>
  <cp:revision>40</cp:revision>
  <dc:subject/>
  <dc:title>Sin título de diapositiva</dc:title>
</cp:coreProperties>
</file>