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CEA5AF48-16ED-40CC-86AB-CD8FD3319226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3 Marcador de encabezado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30A-D1B4-4197-AABD-99EC7D0C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75F-0A86-4055-B636-8CE6F561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3A2-4CD2-4D9A-8C66-D417E9B2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652-F2F1-4012-8E53-65E06C98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39C-205A-46A5-9CDF-4ED1E9A2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104-044E-4972-96C2-FE8DF11F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4F1-375A-45BE-A6DF-B46B2005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1D5-9BD0-4CAD-A49C-EC665068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64A-4261-47EA-8440-B80B61EA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216-4F7A-4F70-A02B-0F8FC434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63E-A4A2-4375-B029-553EF84E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340-2FB5-4854-BF66-E59F6D98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F4B8-3EC5-46AA-8BC4-0DFCE8156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92040" y="417600"/>
          <a:ext cx="8699400" cy="74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17600"/>
                    <a:ext cx="8699400" cy="74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534960" y="469800"/>
          <a:ext cx="83995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469800"/>
                    <a:ext cx="83995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255600" y="363600"/>
          <a:ext cx="87138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363600"/>
                    <a:ext cx="87138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68280" y="393840"/>
          <a:ext cx="84708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93840"/>
                    <a:ext cx="84708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668160" y="49536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417600" y="444600"/>
          <a:ext cx="8609040" cy="67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44600"/>
                    <a:ext cx="8609040" cy="67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85640" y="463680"/>
          <a:ext cx="8263080" cy="66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463680"/>
                    <a:ext cx="8263080" cy="66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50920" y="568440"/>
            <a:ext cx="8713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constructor: inicializar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rtug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int y,Graphics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=x; v=y; //coordenadas ini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=0.0; //dirección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=z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i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 += x*Math.PI/180;//en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534960" y="247680"/>
          <a:ext cx="7981920" cy="662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47680"/>
                    <a:ext cx="798192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528480" y="517680"/>
          <a:ext cx="79059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17680"/>
                    <a:ext cx="79059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4"/>
          <p:cNvGraphicFramePr/>
          <p:nvPr/>
        </p:nvGraphicFramePr>
        <p:xfrm>
          <a:off x="874800" y="549360"/>
          <a:ext cx="7354800" cy="55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549360"/>
                    <a:ext cx="735480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312840" y="12600"/>
          <a:ext cx="8216640" cy="663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2600"/>
                    <a:ext cx="8216640" cy="663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Line 3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700200" y="530280"/>
          <a:ext cx="8218440" cy="61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530280"/>
                    <a:ext cx="821844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9400" y="552600"/>
          <a:ext cx="7823160" cy="58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2600"/>
                    <a:ext cx="7823160" cy="58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nbaloian</cp:lastModifiedBy>
  <cp:lastPrinted>2006-04-21T23:26:38Z</cp:lastPrinted>
  <dcterms:modified xsi:type="dcterms:W3CDTF">2010-05-07T16:02:54Z</dcterms:modified>
  <cp:revision>40</cp:revision>
  <dc:subject/>
  <dc:title>Sin título de diapositiva</dc:title>
</cp:coreProperties>
</file>