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204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0348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4280"/>
            <a:ext cx="46324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080" y="8778960"/>
            <a:ext cx="300348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lstStyle>
            <a:lvl1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  <a:defRPr b="0" lang="es-ES_tradn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fld id="{88509C19-1D68-48E3-9CA5-13A13E605E5D}" type="slidenum"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3 Marcador de encabezado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42A-E95B-44B3-B913-9688C478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CCB-27C6-4C6A-B854-C702BE85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3E9-90E3-4663-BEC2-55100879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C5D-70CE-47BE-A030-3A4BDE23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EED-5DF4-4400-B3BF-186688D4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420-9650-43DB-ABDE-0BE922CD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FE8-3A2E-408D-9DD6-5E54DDDA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048-7EAB-4831-83D2-7F7DC9A0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DB4-F876-406B-AB77-97F40B93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ABB-3304-4EE1-9C13-A7B28080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D86-9050-4FBB-89B4-ECEDB14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F9C-9B38-459F-8F5F-A5B444F2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DA0E-B49A-47D7-9C91-A591F1E20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95360" y="65556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sión de coorde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149480"/>
                <a:gridCol w="2736720"/>
                <a:gridCol w="1295280"/>
                <a:gridCol w="2590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x+100)/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x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- H y/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92040" y="417600"/>
          <a:ext cx="8699400" cy="74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417600"/>
                    <a:ext cx="8699400" cy="74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534960" y="469800"/>
          <a:ext cx="83995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469800"/>
                    <a:ext cx="83995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255600" y="363600"/>
          <a:ext cx="87138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363600"/>
                    <a:ext cx="87138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"/>
          <p:cNvGraphicFramePr/>
          <p:nvPr/>
        </p:nvGraphicFramePr>
        <p:xfrm>
          <a:off x="368280" y="393840"/>
          <a:ext cx="847080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93840"/>
                    <a:ext cx="84708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668160" y="495360"/>
          <a:ext cx="78170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78170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417600" y="444600"/>
          <a:ext cx="8609040" cy="67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444600"/>
                    <a:ext cx="8609040" cy="67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85640" y="463680"/>
          <a:ext cx="8263080" cy="66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463680"/>
                    <a:ext cx="8263080" cy="66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50920" y="568440"/>
            <a:ext cx="87138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constructor: inicializar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rtug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int y,Graphics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=x; v=y; //coordenadas ini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fa=0.0; //dirección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=z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//objet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i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fa += x*Math.PI/180;//en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4"/>
          <p:cNvGraphicFramePr/>
          <p:nvPr/>
        </p:nvGraphicFramePr>
        <p:xfrm>
          <a:off x="534960" y="247680"/>
          <a:ext cx="7981920" cy="662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247680"/>
                    <a:ext cx="798192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"/>
          <p:cNvGraphicFramePr/>
          <p:nvPr/>
        </p:nvGraphicFramePr>
        <p:xfrm>
          <a:off x="528480" y="517680"/>
          <a:ext cx="79059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17680"/>
                    <a:ext cx="79059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4"/>
          <p:cNvGraphicFramePr/>
          <p:nvPr/>
        </p:nvGraphicFramePr>
        <p:xfrm>
          <a:off x="874800" y="549360"/>
          <a:ext cx="7354800" cy="55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549360"/>
                    <a:ext cx="7354800" cy="55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312840" y="12600"/>
          <a:ext cx="8216640" cy="663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2600"/>
                    <a:ext cx="8216640" cy="663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Line 3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700200" y="530280"/>
          <a:ext cx="8218440" cy="61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530280"/>
                    <a:ext cx="821844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9400" y="552600"/>
          <a:ext cx="7823160" cy="58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2600"/>
                    <a:ext cx="7823160" cy="58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nbaloian</cp:lastModifiedBy>
  <cp:lastPrinted>2006-04-21T23:26:38Z</cp:lastPrinted>
  <dcterms:modified xsi:type="dcterms:W3CDTF">2010-05-07T16:02:54Z</dcterms:modified>
  <cp:revision>40</cp:revision>
  <dc:subject/>
  <dc:title>Sin título de diapositiva</dc:title>
</cp:coreProperties>
</file>