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F55-722E-46A4-AE77-333358474A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9B5-66F9-409C-81C1-F24CE0677B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8B5-4E24-4BF0-92EC-B4966B26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42B-C215-40BD-A95B-38D3B289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CAB-7900-42D5-ACF3-D9843A8F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375-B682-4C44-98C3-C3BEEAB1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CD1-E9E3-4A96-99D5-F5FCAA2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125-F0AE-4BB8-A052-49F77E2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8C9-635E-4342-BBE3-6737F8EE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712-A8F3-4090-98A6-41C0807C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866-A79C-4464-87BE-55D7B3EE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504-9AB1-4A32-944B-078FEA9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39A-915F-4642-9440-8B5B659D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A0B-9C2F-46EB-8DCF-6BC8807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DC9-D506-4919-83AD-E425B92A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85800" y="351000"/>
          <a:ext cx="813744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1000"/>
                    <a:ext cx="813744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69960" y="473040"/>
          <a:ext cx="815328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473040"/>
                    <a:ext cx="815328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11120" y="441360"/>
          <a:ext cx="8474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41360"/>
                    <a:ext cx="8474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1036800" y="655560"/>
          <a:ext cx="70704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655560"/>
                    <a:ext cx="70704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77960" y="669960"/>
          <a:ext cx="75578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669960"/>
                    <a:ext cx="75578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26960" y="304920"/>
          <a:ext cx="78789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304920"/>
                    <a:ext cx="78789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nbaloian</cp:lastModifiedBy>
  <cp:lastPrinted>2006-04-18T16:26:29Z</cp:lastPrinted>
  <dcterms:modified xsi:type="dcterms:W3CDTF">2010-05-03T13:17:21Z</dcterms:modified>
  <cp:revision>33</cp:revision>
  <dc:subject/>
  <dc:title>Sin título de diapositiva</dc:title>
</cp:coreProperties>
</file>