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595-2D73-4E27-BA6F-59982FE3D4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1F5-CDAF-4793-BDC5-A72823AE85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049-EC16-43D0-9470-355DC207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4C3-EFA8-4F9C-85F7-0D25CCF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D74-473D-4366-BC8F-BF7AFF1E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2DA-B0CB-4DA7-A8F7-9786472A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29A-FE84-480C-8CAA-517EC47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5F8-C7A1-4899-AA89-0598752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0A7-D275-40AC-9798-931F3AA4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EBC-B27B-4C0E-BA73-E3A44E0A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DF6-1AE1-4510-9C20-D8E9E01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4D7-F257-4ADF-BBC1-1A7BF12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180-F30E-4633-B5CF-906DD9C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BBC-6653-49F7-94F4-649734BA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C04C-F50B-421E-AF1A-28DA8166A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85800" y="351000"/>
          <a:ext cx="813744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1000"/>
                    <a:ext cx="813744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69960" y="473040"/>
          <a:ext cx="815328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473040"/>
                    <a:ext cx="815328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11120" y="441360"/>
          <a:ext cx="8474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41360"/>
                    <a:ext cx="8474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36800" y="655560"/>
          <a:ext cx="70704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655560"/>
                    <a:ext cx="70704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77960" y="669960"/>
          <a:ext cx="75578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669960"/>
                    <a:ext cx="75578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6960" y="304920"/>
          <a:ext cx="78789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304920"/>
                    <a:ext cx="78789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nbaloian</cp:lastModifiedBy>
  <cp:lastPrinted>2006-04-18T16:26:29Z</cp:lastPrinted>
  <dcterms:modified xsi:type="dcterms:W3CDTF">2010-05-03T13:17:21Z</dcterms:modified>
  <cp:revision>33</cp:revision>
  <dc:subject/>
  <dc:title>Sin título de diapositiva</dc:title>
</cp:coreProperties>
</file>