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38480" cy="37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664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664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5CE6-5472-4D64-871C-142EBBE1B78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38480" cy="37051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38480" cy="37051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C267-DD10-4E05-82CC-32C4920BC4D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38480" cy="37051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3C00-0B5F-49E5-95E5-B426AFFF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602-AF4F-40A1-A555-B1527FE0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9572-1454-48DC-8941-4B85B6D9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5B3F-5678-433E-BD58-11914ECE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0758-72A3-4DF6-9254-25F5C38F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05F8-A316-4AE2-AC6A-30C21D58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F788-86E2-433F-9066-1B7BBCED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D4F6-EE0D-4CDA-92A3-CC334BB4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5AB-B240-4C3A-AC65-8A4D1EA8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189-4305-4F92-810E-4494DD30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9265-F9D3-4E5A-8286-4E7A66C1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DB2A-5421-4BDF-815F-FFB0C8A1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F997-148D-4629-B569-D9707947F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685800" y="351000"/>
          <a:ext cx="8137440" cy="65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1000"/>
                    <a:ext cx="8137440" cy="65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544680" y="557280"/>
          <a:ext cx="84484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57280"/>
                    <a:ext cx="84484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669960" y="473040"/>
          <a:ext cx="8153280" cy="696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473040"/>
                    <a:ext cx="8153280" cy="696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11120" y="441360"/>
          <a:ext cx="8474040" cy="61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441360"/>
                    <a:ext cx="8474040" cy="61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69800" y="446040"/>
          <a:ext cx="8474040" cy="61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6040"/>
                    <a:ext cx="8474040" cy="61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1036800" y="655560"/>
          <a:ext cx="707040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6800" y="655560"/>
                    <a:ext cx="707040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642960" y="681120"/>
          <a:ext cx="813924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81120"/>
                    <a:ext cx="813924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655560" y="581040"/>
          <a:ext cx="837432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81040"/>
                    <a:ext cx="837432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777960" y="669960"/>
          <a:ext cx="7557840" cy="57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669960"/>
                    <a:ext cx="7557840" cy="57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365040" y="417600"/>
          <a:ext cx="842652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417600"/>
                    <a:ext cx="842652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903240" y="581040"/>
          <a:ext cx="789156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581040"/>
                    <a:ext cx="78915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1089000" y="779400"/>
          <a:ext cx="721188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79400"/>
                    <a:ext cx="72118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692280" y="655560"/>
          <a:ext cx="828828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55560"/>
                    <a:ext cx="828828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426960" y="304920"/>
          <a:ext cx="787896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960" y="304920"/>
                    <a:ext cx="78789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642960" y="692280"/>
          <a:ext cx="805320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0532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30080" y="630360"/>
          <a:ext cx="81648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1648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31720" y="506520"/>
          <a:ext cx="835020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35020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482760" y="655560"/>
          <a:ext cx="8386560" cy="57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55560"/>
                    <a:ext cx="838656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nbaloian</cp:lastModifiedBy>
  <cp:lastPrinted>2006-04-18T16:26:29Z</cp:lastPrinted>
  <dcterms:modified xsi:type="dcterms:W3CDTF">2010-05-03T13:17:21Z</dcterms:modified>
  <cp:revision>33</cp:revision>
  <dc:subject/>
  <dc:title>Sin título de diapositiva</dc:title>
</cp:coreProperties>
</file>