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A1FC-BCBE-42AE-83FF-A25FCB85AF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9E73-34BA-4368-8A3E-DF383F59EF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AFE-D65D-4ABE-B533-8CD41B80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7AF-DBE0-451B-93AF-6E3A39F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79F-83CE-487D-AADA-E76C5FFF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C7C-0550-4A75-A986-0A679993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85C-87FB-44FD-A105-4FA16FF1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19C-560B-41B0-8EB1-E3F57BF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630-132B-4C75-B8F9-A155155D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A62-2B30-4812-9BB6-37DA829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017-089A-4962-B102-5573DA2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D7A-44D2-480F-8C6D-5D6EF6D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A37-C891-4458-9724-FABAE6D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289-04CD-428A-BD4A-5437DFC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2E1F-6E95-4B38-87A0-24A1C49C7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85800" y="351000"/>
          <a:ext cx="813744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1000"/>
                    <a:ext cx="813744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69960" y="473040"/>
          <a:ext cx="815328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473040"/>
                    <a:ext cx="815328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11120" y="441360"/>
          <a:ext cx="8474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41360"/>
                    <a:ext cx="8474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36800" y="655560"/>
          <a:ext cx="70704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655560"/>
                    <a:ext cx="70704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77960" y="669960"/>
          <a:ext cx="75578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669960"/>
                    <a:ext cx="75578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6960" y="304920"/>
          <a:ext cx="78789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304920"/>
                    <a:ext cx="78789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nbaloian</cp:lastModifiedBy>
  <cp:lastPrinted>2006-04-18T16:26:29Z</cp:lastPrinted>
  <dcterms:modified xsi:type="dcterms:W3CDTF">2010-05-03T13:17:21Z</dcterms:modified>
  <cp:revision>33</cp:revision>
  <dc:subject/>
  <dc:title>Sin título de diapositiva</dc:title>
</cp:coreProperties>
</file>