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1: He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1-enero 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FE43-C618-45E3-85B9-F3F63134724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1: He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1-enero 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64E2-AC54-44D5-895C-677B2A9B120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1: He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1-enero 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EE1B-C4D8-4F70-BD98-9FD6961D18E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CEB3-8AB3-4E16-BAA8-7D3495BC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A23F-27C8-4EA5-B3F8-140F14A7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1FD-BD02-4AE8-ACA4-725A019E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4168-98CF-4867-8B87-602BF7509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D753-DAFA-4C9D-A625-EEEC6CC25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8879-DFBA-41AC-B9A1-6FB9B686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5F9D-57E9-4642-B0C9-1A45C08D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4F33-5CB2-4C1F-AECE-E8795328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9C05-508D-4EC2-BE2D-A85BC40F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0B5-D80E-424D-987A-A90C554D2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1BA-F53A-46CC-80DE-B6F8FAA8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7300-C1CE-429F-BC24-7534BCB4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5830-62D5-480D-A554-1A88D68AB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698400" y="538200"/>
          <a:ext cx="7720200" cy="568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38200"/>
                    <a:ext cx="77202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96800" y="496800"/>
          <a:ext cx="830736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96800"/>
                    <a:ext cx="830736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604800" y="444600"/>
          <a:ext cx="82296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44600"/>
                    <a:ext cx="82296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250920" y="-21960"/>
            <a:ext cx="8713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Rect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t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if(y&lt;=0) U.abortar(“&lt;=0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y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(x+y)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Tri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,z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this.z=z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y&lt;=0 || z&lt;=0 || x+y&lt;=z || x+z&lt;=y || y+z&lt;=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abortar(“no forman triangulo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+y+z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=(x+y+z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Math.sqrt(s*(s-x)*(s-y)*(s-z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539640" y="476280"/>
          <a:ext cx="840420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40420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82760" y="482760"/>
          <a:ext cx="8439120" cy="684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39120" cy="68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403200" y="469800"/>
          <a:ext cx="8593200" cy="698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93200" cy="698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468360" y="26028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lass Circulo extends Circunfer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125360"/>
          <a:ext cx="7848720" cy="6031080"/>
        </p:xfrm>
        <a:graphic>
          <a:graphicData uri="http://schemas.openxmlformats.org/drawingml/2006/table">
            <a:tbl>
              <a:tblPr/>
              <a:tblGrid>
                <a:gridCol w="1141200"/>
                <a:gridCol w="874800"/>
                <a:gridCol w="2370240"/>
                <a:gridCol w="438120"/>
                <a:gridCol w="1150920"/>
                <a:gridCol w="873000"/>
                <a:gridCol w="100044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me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Line 109"/>
          <p:cNvSpPr/>
          <p:nvPr/>
        </p:nvSpPr>
        <p:spPr>
          <a:xfrm flipH="1">
            <a:off x="250920" y="27082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10"/>
          <p:cNvSpPr/>
          <p:nvPr/>
        </p:nvSpPr>
        <p:spPr>
          <a:xfrm>
            <a:off x="250920" y="5013360"/>
            <a:ext cx="252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11"/>
          <p:cNvSpPr/>
          <p:nvPr/>
        </p:nvSpPr>
        <p:spPr>
          <a:xfrm flipV="1">
            <a:off x="3564000" y="3500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13"/>
          <p:cNvSpPr/>
          <p:nvPr/>
        </p:nvSpPr>
        <p:spPr>
          <a:xfrm flipH="1">
            <a:off x="250920" y="57340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14"/>
          <p:cNvSpPr/>
          <p:nvPr/>
        </p:nvSpPr>
        <p:spPr>
          <a:xfrm flipH="1">
            <a:off x="4932000" y="256536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16"/>
          <p:cNvSpPr/>
          <p:nvPr/>
        </p:nvSpPr>
        <p:spPr>
          <a:xfrm>
            <a:off x="4859280" y="3213000"/>
            <a:ext cx="36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44"/>
          <p:cNvSpPr/>
          <p:nvPr/>
        </p:nvSpPr>
        <p:spPr>
          <a:xfrm>
            <a:off x="5580000" y="2565360"/>
            <a:ext cx="0" cy="35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45"/>
          <p:cNvSpPr/>
          <p:nvPr/>
        </p:nvSpPr>
        <p:spPr>
          <a:xfrm>
            <a:off x="5580000" y="3573360"/>
            <a:ext cx="0" cy="208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46"/>
          <p:cNvSpPr/>
          <p:nvPr/>
        </p:nvSpPr>
        <p:spPr>
          <a:xfrm flipH="1">
            <a:off x="4932000" y="566100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496800" y="444600"/>
          <a:ext cx="8164440" cy="65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44600"/>
                    <a:ext cx="8164440" cy="65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250920" y="171720"/>
            <a:ext cx="8893080" cy="631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x; if(r&lt;=0) U.abortar(“radi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r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(dou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x; if(a&lt;=0) U.abortar(“lad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a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79280" y="1717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jerarquía de cl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324000" y="333360"/>
            <a:ext cx="882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. Con clase abstracta que obliga a redefinir métodos en clases exten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 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debe ser &gt;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ermite crear objetos (no admite new Figura(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tener al menos un método abstr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 encabezami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iga a clases extendidas a redefinir métodos abstra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nbaloian</cp:lastModifiedBy>
  <cp:lastPrinted>2006-04-13T19:29:55Z</cp:lastPrinted>
  <dcterms:modified xsi:type="dcterms:W3CDTF">2010-04-27T15:40:42Z</dcterms:modified>
  <cp:revision>34</cp:revision>
  <dc:subject/>
  <dc:title>Sin título de diapositiva</dc:title>
</cp:coreProperties>
</file>