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EA1C-D4CF-40A6-835E-5596B4B352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DE8D-4EF2-4E79-B497-6A27004801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9AD1-A2C1-4290-BF46-C63693CE705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396-4BD7-4070-9ED4-995BC62E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947-3F72-49A5-A8A4-B3DC0D3D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804-158C-4FC0-A448-6A032DEA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47B-DC42-426E-B74F-5E830018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A7F-D178-43EE-A8BB-0793A31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650-F02C-4299-8119-3825C415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235-5065-4C99-8D7F-EA5F4852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79F-1B3D-4A01-A9E7-6A35C6E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FE3-FB9E-4C36-A2C5-4D69FAD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428-B587-4DDD-BD04-6617503B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90C-E499-45D7-94C2-9D07D90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8C8-207C-4BB6-9120-3A6D2C2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36FA-1E6E-4000-97D0-DBDAC59F6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Line 109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0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1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3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4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6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4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45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6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4-27T15:40:42Z</dcterms:modified>
  <cp:revision>34</cp:revision>
  <dc:subject/>
  <dc:title>Sin título de diapositiva</dc:title>
</cp:coreProperties>
</file>