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1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1-enero 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6119-CC67-431F-A25F-FCA69C9438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1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1-enero 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B7FB-D799-4196-A961-131F1CF741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1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1-enero 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39EB-CE11-494A-A829-E7151B7B37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8A4-22E7-4146-8E58-C0C9B7D8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B3C-B747-4BD6-933A-67970F4F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D24-A0CC-41F1-8EE3-91195D39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935-2DBE-4554-A8E4-161BAC2D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81E-6C08-4DC9-8D44-A6F3E7F5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E33-8666-4C7C-84AC-C90BDC8D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400-CC85-4EFD-BFB9-FCA3C814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A51-E6F6-49AE-9C0F-265B8711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BC8-F64A-49D4-8300-9002E5AF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087-6AF7-4B0B-AA6A-B82C156C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7B7-313B-4151-9363-55A2D629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74B-2D5C-48FE-8E71-F2DD288C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E92E-E5F1-4AFC-8D81-A55049A27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496800"/>
          <a:ext cx="830736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30736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82760" y="482760"/>
          <a:ext cx="8439120" cy="68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39120" cy="68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Line 109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10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11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3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4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6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4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45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46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96800" y="444600"/>
          <a:ext cx="81644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1644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(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24000" y="33336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Con clase abstracta que obliga a redefinir métodos en clases ext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rmite crear objetos (no admite new Figura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nbaloian</cp:lastModifiedBy>
  <cp:lastPrinted>2006-04-13T19:29:55Z</cp:lastPrinted>
  <dcterms:modified xsi:type="dcterms:W3CDTF">2010-04-27T15:40:42Z</dcterms:modified>
  <cp:revision>34</cp:revision>
  <dc:subject/>
  <dc:title>Sin título de diapositiva</dc:title>
</cp:coreProperties>
</file>