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AF12B-85F3-443F-8837-3CB528B63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07BBE-3044-4DCA-BAB0-0E41977ED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F6A37-DE72-46DC-A9A1-F3844FFA8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BFA91-A2A7-4496-AC2B-675DECC31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9F9F2-9266-4A5C-930C-1A11C8C9E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03280-BF9C-4206-952D-7E3781CA5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372CD-B6F4-40E9-943E-45BA14132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79843-888B-465F-96E7-7DF1DA140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12B68-CA45-43F5-A463-76499513A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23A07-BC53-49E8-9DE9-AE3F746D8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F29FA-4E5C-44E5-95F3-1EFEF14AC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66248-67E3-4DB7-9FC7-F73D6E702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B79C5-5743-4B3C-8D43-2B8CFB00DD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04800" y="484200"/>
          <a:ext cx="8015400" cy="6723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4800" y="484200"/>
                    <a:ext cx="8015400" cy="672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698400" y="444600"/>
          <a:ext cx="7683480" cy="6959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8400" y="444600"/>
                    <a:ext cx="7683480" cy="695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1336680" y="878040"/>
          <a:ext cx="7062840" cy="5554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6680" y="878040"/>
                    <a:ext cx="7062840" cy="555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658800" y="363600"/>
          <a:ext cx="8163000" cy="7059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8800" y="363600"/>
                    <a:ext cx="8163000" cy="705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627120" y="550800"/>
          <a:ext cx="7978680" cy="5900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7120" y="550800"/>
                    <a:ext cx="7978680" cy="590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388800" y="399960"/>
          <a:ext cx="8529840" cy="6238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8800" y="399960"/>
                    <a:ext cx="8529840" cy="623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388800" y="399960"/>
          <a:ext cx="8542440" cy="6175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8800" y="399960"/>
                    <a:ext cx="8542440" cy="617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1015920" y="673200"/>
          <a:ext cx="7620120" cy="5829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15920" y="673200"/>
                    <a:ext cx="7620120" cy="582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388800" y="388800"/>
          <a:ext cx="8467920" cy="6099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8800" y="388800"/>
                    <a:ext cx="8467920" cy="609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523800" y="484200"/>
          <a:ext cx="8325000" cy="6211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3800" y="484200"/>
                    <a:ext cx="8325000" cy="621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330120" y="304920"/>
          <a:ext cx="7950240" cy="7073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0120" y="304920"/>
                    <a:ext cx="7950240" cy="707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330120" y="419040"/>
          <a:ext cx="8521920" cy="6527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0120" y="419040"/>
                    <a:ext cx="8521920" cy="652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749160" y="596880"/>
          <a:ext cx="8001000" cy="5562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9160" y="596880"/>
                    <a:ext cx="8001000" cy="556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752400" y="725400"/>
          <a:ext cx="7504200" cy="6093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2400" y="725400"/>
                    <a:ext cx="7504200" cy="609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577800" y="523800"/>
          <a:ext cx="8148600" cy="5904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7800" y="523800"/>
                    <a:ext cx="8148600" cy="590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711360" y="469800"/>
          <a:ext cx="7734240" cy="6274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1360" y="469800"/>
                    <a:ext cx="7734240" cy="627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723960" y="558720"/>
          <a:ext cx="8051760" cy="6248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3960" y="558720"/>
                    <a:ext cx="8051760" cy="624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830160" y="746280"/>
          <a:ext cx="7526520" cy="5738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0160" y="746280"/>
                    <a:ext cx="7526520" cy="573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0T15:21:23Z</dcterms:created>
  <dc:creator>jalvarez</dc:creator>
  <dc:description/>
  <dc:language>en-US</dc:language>
  <cp:lastModifiedBy>jalvarez</cp:lastModifiedBy>
  <cp:lastPrinted>2006-04-08T15:00:39Z</cp:lastPrinted>
  <dcterms:modified xsi:type="dcterms:W3CDTF">2009-04-08T17:58:02Z</dcterms:modified>
  <cp:revision>65</cp:revision>
  <dc:subject/>
  <dc:title>Sin título de diapositiva</dc:title>
</cp:coreProperties>
</file>