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F603-14F7-4D0E-B03A-B04C9DFF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97A-C9DD-483A-BCBD-B6B32D17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0EF2-66CC-41DF-B990-D29427C5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AC9-BE25-4557-B020-B2829331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465-346C-4DD3-8C20-34DC365F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B1F-B073-42D7-8651-05FC35EB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E3E-C37D-4D66-A280-6DE4EFE9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D43-F5E7-4E46-A17E-818BB468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1217-FD50-414C-A929-29059D82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64A-3605-4296-AEFB-4252D68A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7BC-EF19-45A9-B95E-C15A08C8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2FA-13F8-4989-93E7-D61B3CB8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912E-FCC6-45BA-A1FC-669A0A58E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27120" y="550800"/>
          <a:ext cx="797868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550800"/>
                    <a:ext cx="797868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88800" y="399960"/>
          <a:ext cx="8529840" cy="62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29840" cy="62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8800" y="399960"/>
          <a:ext cx="8542440" cy="61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99960"/>
                    <a:ext cx="8542440" cy="61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15920" y="673200"/>
          <a:ext cx="7620120" cy="58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673200"/>
                    <a:ext cx="7620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88800" y="388800"/>
          <a:ext cx="8467920" cy="609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800" y="388800"/>
                    <a:ext cx="8467920" cy="609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23800" y="484200"/>
          <a:ext cx="8325000" cy="62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484200"/>
                    <a:ext cx="83250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6-04-08T15:00:39Z</cp:lastPrinted>
  <dcterms:modified xsi:type="dcterms:W3CDTF">2009-04-08T17:58:02Z</dcterms:modified>
  <cp:revision>65</cp:revision>
  <dc:subject/>
  <dc:title>Sin título de diapositiva</dc:title>
</cp:coreProperties>
</file>