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1F79-10F5-4A79-A3B4-53F2EADCA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C179-A032-4DA7-AA87-1C16A153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E49B-57B2-48B6-AD97-AD01E7431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3760-1819-43BF-819C-C7F26D23B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0ECD-15C4-4E5F-A4B2-1B5369B6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D5D7-068E-4814-9FA7-70C2A87F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1333-D182-4752-9D5C-B39E6636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3127-49FC-45AF-B652-43407079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2B7E-23D2-43EF-BC6F-6CCBCA9A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085D-DF70-4E80-85F4-29FA8D6B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D81B-789F-4061-8F13-475A6D11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43BC-7D73-405B-8E7D-E0C3A093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6BDC-7790-46C4-BE85-45B0E0D8D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33320" y="554040"/>
          <a:ext cx="8229600" cy="62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554040"/>
                    <a:ext cx="8229600" cy="62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80960" y="469800"/>
          <a:ext cx="8494920" cy="670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69800"/>
                    <a:ext cx="8494920" cy="670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54200" y="495360"/>
          <a:ext cx="825156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495360"/>
                    <a:ext cx="825156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853920" y="531720"/>
          <a:ext cx="7520040" cy="606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31720"/>
                    <a:ext cx="7520040" cy="606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927000" y="793800"/>
          <a:ext cx="774720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793800"/>
                    <a:ext cx="774720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11200" y="403200"/>
          <a:ext cx="8136000" cy="722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403200"/>
                    <a:ext cx="8136000" cy="722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73200" y="444600"/>
          <a:ext cx="7812000" cy="614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444600"/>
                    <a:ext cx="7812000" cy="61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96800" y="549360"/>
          <a:ext cx="8529840" cy="701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549360"/>
                    <a:ext cx="8529840" cy="70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96800" y="431640"/>
          <a:ext cx="8334360" cy="8124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31640"/>
                    <a:ext cx="8334360" cy="812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96800" y="431640"/>
          <a:ext cx="8334360" cy="813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31640"/>
                    <a:ext cx="8334360" cy="813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754200" y="619200"/>
          <a:ext cx="7893000" cy="640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19200"/>
                    <a:ext cx="7893000" cy="64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33320" y="457200"/>
          <a:ext cx="7929720" cy="567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457200"/>
                    <a:ext cx="7929720" cy="567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792000" y="260280"/>
          <a:ext cx="7545600" cy="631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260280"/>
                    <a:ext cx="7545600" cy="63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112760" y="743040"/>
          <a:ext cx="7547040" cy="54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743040"/>
                    <a:ext cx="754704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1050840" y="828720"/>
          <a:ext cx="7508880" cy="539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828720"/>
                    <a:ext cx="7508880" cy="53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915840" y="779400"/>
          <a:ext cx="78552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779400"/>
                    <a:ext cx="78552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828720" y="482760"/>
          <a:ext cx="7893000" cy="672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482760"/>
                    <a:ext cx="7893000" cy="67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509760" y="496800"/>
          <a:ext cx="8359560" cy="616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496800"/>
                    <a:ext cx="8359560" cy="616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509760" y="496800"/>
          <a:ext cx="8229600" cy="607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496800"/>
                    <a:ext cx="8229600" cy="60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517680" y="498600"/>
          <a:ext cx="8178480" cy="594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498600"/>
                    <a:ext cx="8178480" cy="59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514440" y="496800"/>
          <a:ext cx="8219880" cy="607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496800"/>
                    <a:ext cx="8219880" cy="60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988920" y="803160"/>
          <a:ext cx="6977160" cy="53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803160"/>
                    <a:ext cx="697716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14520" y="588960"/>
          <a:ext cx="8240400" cy="549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588960"/>
                    <a:ext cx="8240400" cy="54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62040" y="601560"/>
          <a:ext cx="8192880" cy="536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601560"/>
                    <a:ext cx="8192880" cy="53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14480" y="816120"/>
          <a:ext cx="7656480" cy="533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16120"/>
                    <a:ext cx="7656480" cy="53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57080" y="685800"/>
          <a:ext cx="7977240" cy="756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685800"/>
                    <a:ext cx="7977240" cy="75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33440" y="480960"/>
          <a:ext cx="8518320" cy="709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480960"/>
                    <a:ext cx="8518320" cy="70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58720" y="482760"/>
          <a:ext cx="8153640" cy="66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482760"/>
                    <a:ext cx="8153640" cy="66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9:33:58Z</dcterms:created>
  <dc:creator>jalvarez</dc:creator>
  <dc:description/>
  <dc:language>en-US</dc:language>
  <cp:lastModifiedBy>jalvarez</cp:lastModifiedBy>
  <cp:lastPrinted>2005-03-29T16:14:14Z</cp:lastPrinted>
  <dcterms:modified xsi:type="dcterms:W3CDTF">2009-03-26T16:18:16Z</dcterms:modified>
  <cp:revision>43</cp:revision>
  <dc:subject/>
  <dc:title>Sin título de diapositiva</dc:title>
</cp:coreProperties>
</file>