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659-E7D8-4AE6-9501-E076B12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451-B9FF-43E0-A644-B05E623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007-9821-4500-A169-D4C2681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423-4969-4DFE-8239-65E9212E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E72-0923-4093-A59C-3A770211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1EE-A5F5-4396-8D3C-51229306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64A-0B29-4851-B3A8-F83752EF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812-1DB9-408D-B50F-22E6554D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319-7E2D-4B18-BE6F-4C449FC5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94B-664A-483B-A35A-5103E3F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7CF-116F-4B53-BA56-256190C9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C16-059A-433D-B89B-3D8802D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E804-1BE5-4602-B7E6-5A35579D7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9-03-26T16:18:16Z</dcterms:modified>
  <cp:revision>43</cp:revision>
  <dc:subject/>
  <dc:title>Sin título de diapositiva</dc:title>
</cp:coreProperties>
</file>