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DAD-DEE6-42FE-8665-6FE7226C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EEC-EC09-4560-BE67-22D6909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BEC-F1AB-40A9-858B-E313D08D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5C2-12CF-413A-B5E3-B616185C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D7F-8B55-4A91-85F0-C8DF1B53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E9E-6E72-461E-9449-5BA8577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C24-B03A-4A9C-890C-1F2F6430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6AA-6DBD-4B98-974B-5FBCAE8B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539-169F-4374-923E-D2D6786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088-AA0C-47EB-8B50-4AEB8318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6D3-68DD-4487-85AE-7CCA058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2DD-3584-400C-858B-0D1C9F6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D6F-47FB-4825-8951-C45594CEC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9-03-26T16:18:16Z</dcterms:modified>
  <cp:revision>43</cp:revision>
  <dc:subject/>
  <dc:title>Sin título de diapositiva</dc:title>
</cp:coreProperties>
</file>