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6041-CE28-4E5B-B821-F59B714D67B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08BB-4F5A-40FA-8CDA-763E88D35EC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7F3C-7337-42AE-A4AD-EE1486BA911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7328-E48B-41CD-9756-72B600FA3E2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E686-E193-4D8C-B510-0223B59F5EB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E54F-8AD2-490F-B1C8-FA597710385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8C7A-F712-4621-8FB2-0777A4AF2B1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82FA-484D-4641-BE74-EDE471F06AE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3E9E-98A1-4AEF-84F6-B4CB09A0F00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9FFA-8ED9-4CE9-A094-2131AD078B5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4B70-1A92-4B67-AE37-238F07410DF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2E53-8A9D-4CF4-92F5-49D7D3CE082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15BE-4572-470E-A1F3-A05309182CC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90FA-77B3-4495-AB77-E62C0925B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B231-94BB-4E1C-8F42-5B798280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0FD9-BB37-4385-9BE6-286F7F77B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2DF1-7641-44B3-9F3A-4C4F437A2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3851-13F8-481B-B547-F08CD3C2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1DA5-EAD2-440A-949D-607E4C5F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4916-7F88-4499-BF38-5D44F772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9431-C6E8-4773-AE4D-B7376C67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82AD-0B27-4560-92BE-A261242A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3764-AA7D-4558-9E89-2A5B764D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715D-419E-4F7F-B828-D6C241E6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4A01-7AFC-42F1-B017-6121AC08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E4B0-8026-4790-95D9-FF1D8E5FB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604800" y="484200"/>
          <a:ext cx="8015400" cy="67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484200"/>
                    <a:ext cx="8015400" cy="67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698400" y="444600"/>
          <a:ext cx="7683480" cy="695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444600"/>
                    <a:ext cx="7683480" cy="69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1336680" y="878040"/>
          <a:ext cx="7062840" cy="555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878040"/>
                    <a:ext cx="7062840" cy="55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4"/>
          <p:cNvGraphicFramePr/>
          <p:nvPr/>
        </p:nvGraphicFramePr>
        <p:xfrm>
          <a:off x="658800" y="363600"/>
          <a:ext cx="8163000" cy="705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363600"/>
                    <a:ext cx="8163000" cy="70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330120" y="304920"/>
          <a:ext cx="7950240" cy="707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304920"/>
                    <a:ext cx="7950240" cy="70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330120" y="419040"/>
          <a:ext cx="8521920" cy="652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419040"/>
                    <a:ext cx="8521920" cy="652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4"/>
          <p:cNvGraphicFramePr/>
          <p:nvPr/>
        </p:nvGraphicFramePr>
        <p:xfrm>
          <a:off x="749160" y="596880"/>
          <a:ext cx="8001000" cy="55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596880"/>
                    <a:ext cx="80010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752400" y="725400"/>
          <a:ext cx="7504200" cy="609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725400"/>
                    <a:ext cx="7504200" cy="60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577800" y="523800"/>
          <a:ext cx="8148600" cy="590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523800"/>
                    <a:ext cx="814860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711360" y="469800"/>
          <a:ext cx="7734240" cy="627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469800"/>
                    <a:ext cx="7734240" cy="627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723960" y="558720"/>
          <a:ext cx="8051760" cy="624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558720"/>
                    <a:ext cx="805176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830160" y="746280"/>
          <a:ext cx="7526520" cy="573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160" y="746280"/>
                    <a:ext cx="75265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5:21:23Z</dcterms:created>
  <dc:creator>jalvarez</dc:creator>
  <dc:description/>
  <dc:language>en-US</dc:language>
  <cp:lastModifiedBy>nbaloian</cp:lastModifiedBy>
  <cp:lastPrinted>2006-04-08T15:00:39Z</cp:lastPrinted>
  <dcterms:modified xsi:type="dcterms:W3CDTF">2010-04-23T21:03:18Z</dcterms:modified>
  <cp:revision>66</cp:revision>
  <dc:subject/>
  <dc:title>Sin título de diapositiva</dc:title>
</cp:coreProperties>
</file>