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9B3A-CD23-40B8-B598-38E9AD041E6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7E9D-3EBA-42DC-8152-02C780D0EF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2B6B-4EC8-4572-9440-7A2C12F697C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0649-851D-4962-A799-AA17318677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1137-CA60-43C9-864E-E0A62CCE43C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5E86-7080-48FA-B778-B8E5F0D554A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E81D-8F42-4D04-8A15-6B21C6635A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32C4-1FCC-44BC-9DDA-C5DD75D8A68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9AB7-44A6-4F8C-90BC-4B6B1089FD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2273-1C7F-4223-8646-72681A88F74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8A9B-030D-4685-AB39-F8B9018CEC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75FA-3FD3-4254-B64C-8903E8D48A9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0E71-7967-4316-A107-1236B07E366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DBB-B4E1-4471-9B07-9B6BE952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B6E-1D56-4559-B844-4A56401F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AEE-51B6-4B74-A780-E483C04F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C0B-36BB-43CB-9A33-DDA83B47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E15-DD91-49DD-A291-772A0010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8AD-8561-4BDB-94BB-6908253D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FDD-E0DA-4C6F-915D-381C2CA8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65B-DA10-4A5A-8AE1-8C8F1B4B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67E-C9DA-4785-947E-10D97E09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8CDC-9E4B-42FE-9D3A-BE97B9EB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6D5-3559-416C-B99D-16CC6268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844-2F7F-4176-A2A0-43CF5275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153C-04A0-4458-9289-346064DAB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nbaloian</cp:lastModifiedBy>
  <cp:lastPrinted>2006-04-08T15:00:39Z</cp:lastPrinted>
  <dcterms:modified xsi:type="dcterms:W3CDTF">2010-04-23T21:03:18Z</dcterms:modified>
  <cp:revision>66</cp:revision>
  <dc:subject/>
  <dc:title>Sin título de diapositiva</dc:title>
</cp:coreProperties>
</file>