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3039-84C9-4745-8716-CC08B21AA7B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3791-393D-4130-84DD-F81D18500D4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6779-05E0-43D4-A185-789559A43B5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0F5D-BD96-42B9-96DF-CCBCF177E72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FCE4-33BC-4278-8E26-87024B7E3D1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D504-BBAD-4DA6-9B21-726C5249675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033E-51C3-4815-AD7B-38E52BC832B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1E41-4302-4D8F-87D6-E985A89199D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E704-DBA9-463C-9207-BE921D3E274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1F0C-F352-4010-AD7F-5A2DDEF2BD4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D0EF-23E4-4919-B071-A547A0ACA98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6671-C8DE-4ADF-85E7-AC930BADF21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B35A-BF30-4FBA-B6C4-DB66148A305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DC8-B046-4368-9BAB-CD273662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857-E201-4DBB-9C62-6AB323BE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F6C-EB56-47F3-AB0B-D24D7C3F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AC9-B32C-4239-8C6A-13F3DF4D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5DA-ED7B-4182-96C0-4DF8F96A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A8F-69F3-4441-8D16-0A8BFFCB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57B0-C514-482D-A648-982D3453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AAC-A039-4D8B-953A-30E230A7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7CE-4F93-45A4-86EF-D8E38813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FB3-C52D-40D2-825F-AF46389F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1924-02DB-4D0E-8102-F72D364B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C7D-FE35-4A89-A1C1-83A7E3B5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699F-9223-4455-A12B-C8F20D622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04800" y="484200"/>
          <a:ext cx="80154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84200"/>
                    <a:ext cx="80154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698400" y="444600"/>
          <a:ext cx="7683480" cy="69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44600"/>
                    <a:ext cx="7683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658800" y="363600"/>
          <a:ext cx="8163000" cy="70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3600"/>
                    <a:ext cx="8163000" cy="70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30120" y="304920"/>
          <a:ext cx="7950240" cy="70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04920"/>
                    <a:ext cx="7950240" cy="70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30120" y="419040"/>
          <a:ext cx="85219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19040"/>
                    <a:ext cx="852192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749160" y="596880"/>
          <a:ext cx="80010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96880"/>
                    <a:ext cx="8001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52400" y="725400"/>
          <a:ext cx="750420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725400"/>
                    <a:ext cx="75042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577800" y="523800"/>
          <a:ext cx="814860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523800"/>
                    <a:ext cx="8148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711360" y="469800"/>
          <a:ext cx="773424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69800"/>
                    <a:ext cx="773424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723960" y="558720"/>
          <a:ext cx="80517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558720"/>
                    <a:ext cx="8051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30160" y="746280"/>
          <a:ext cx="752652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746280"/>
                    <a:ext cx="75265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nbaloian</cp:lastModifiedBy>
  <cp:lastPrinted>2006-04-08T15:00:39Z</cp:lastPrinted>
  <dcterms:modified xsi:type="dcterms:W3CDTF">2010-04-23T21:03:18Z</dcterms:modified>
  <cp:revision>66</cp:revision>
  <dc:subject/>
  <dc:title>Sin título de diapositiva</dc:title>
</cp:coreProperties>
</file>