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948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10: Objetos y Cl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62520" y="0"/>
            <a:ext cx="3047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68560" y="685440"/>
            <a:ext cx="4673520" cy="3505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3908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1º de septiembre (J.Alvarez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6041B-EAEE-4E17-B217-177C24CE397C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2"/>
          <p:cNvSpPr/>
          <p:nvPr/>
        </p:nvSpPr>
        <p:spPr>
          <a:xfrm>
            <a:off x="0" y="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10: Objetos y Cl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Rectangle 6"/>
          <p:cNvSpPr/>
          <p:nvPr/>
        </p:nvSpPr>
        <p:spPr>
          <a:xfrm>
            <a:off x="0" y="883908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1º de septiembre (J.Alvarez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3885D-8F31-49B4-B822-6AB1DF1C9B94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2"/>
          <p:cNvSpPr/>
          <p:nvPr/>
        </p:nvSpPr>
        <p:spPr>
          <a:xfrm>
            <a:off x="0" y="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10: Objetos y Cl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0" y="883908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1º de septiembre (J.Alvarez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7242F-4190-4AE7-AD49-A3616034F568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0" y="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10: Objetos y Cl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6"/>
          <p:cNvSpPr/>
          <p:nvPr/>
        </p:nvSpPr>
        <p:spPr>
          <a:xfrm>
            <a:off x="0" y="883908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1º de septiembre (J.Alvarez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F7463-1815-40B2-99AB-E5364C2D6769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2"/>
          <p:cNvSpPr/>
          <p:nvPr/>
        </p:nvSpPr>
        <p:spPr>
          <a:xfrm>
            <a:off x="0" y="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10: Objetos y Cl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6"/>
          <p:cNvSpPr/>
          <p:nvPr/>
        </p:nvSpPr>
        <p:spPr>
          <a:xfrm>
            <a:off x="0" y="883908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1º de septiembre (J.Alvarez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D19D3-4C85-4BAD-939E-7AFA98DEC440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"/>
          <p:cNvSpPr/>
          <p:nvPr/>
        </p:nvSpPr>
        <p:spPr>
          <a:xfrm>
            <a:off x="0" y="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10: Objetos y Cl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6"/>
          <p:cNvSpPr/>
          <p:nvPr/>
        </p:nvSpPr>
        <p:spPr>
          <a:xfrm>
            <a:off x="0" y="883908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1º de septiembre (J.Alvarez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93513-72A6-4F53-8305-0484B788444C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0" y="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10: Objetos y Cl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6"/>
          <p:cNvSpPr/>
          <p:nvPr/>
        </p:nvSpPr>
        <p:spPr>
          <a:xfrm>
            <a:off x="0" y="883908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1º de septiembre (J.Alvarez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71146-4133-4BA0-BC4D-406B9C8CE644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0" y="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10: Objetos y Cl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0" y="883908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1º de septiembre (J.Alvarez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F6256-92E4-44C8-8CB0-47369F851096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2"/>
          <p:cNvSpPr/>
          <p:nvPr/>
        </p:nvSpPr>
        <p:spPr>
          <a:xfrm>
            <a:off x="0" y="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10: Objetos y Cl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6"/>
          <p:cNvSpPr/>
          <p:nvPr/>
        </p:nvSpPr>
        <p:spPr>
          <a:xfrm>
            <a:off x="0" y="883908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1º de septiembre (J.Alvarez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DCBFC-62F0-4759-BAE8-6804369D8F3B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"/>
          <p:cNvSpPr/>
          <p:nvPr/>
        </p:nvSpPr>
        <p:spPr>
          <a:xfrm>
            <a:off x="0" y="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10: Objetos y Cl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6"/>
          <p:cNvSpPr/>
          <p:nvPr/>
        </p:nvSpPr>
        <p:spPr>
          <a:xfrm>
            <a:off x="0" y="883908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1º de septiembre (J.Alvarez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E68D4-4065-4338-A53D-827475A9719D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0" y="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10: Objetos y Cl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0" y="883908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1º de septiembre (J.Alvarez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0E09C-38A6-4108-B8AE-AF9CCB741AC7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2"/>
          <p:cNvSpPr/>
          <p:nvPr/>
        </p:nvSpPr>
        <p:spPr>
          <a:xfrm>
            <a:off x="0" y="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10: Objetos y Cl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6"/>
          <p:cNvSpPr/>
          <p:nvPr/>
        </p:nvSpPr>
        <p:spPr>
          <a:xfrm>
            <a:off x="0" y="883908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1º de septiembre (J.Alvarez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5A8EA-745C-4BA8-91D4-B8B21BCE83DC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2"/>
          <p:cNvSpPr/>
          <p:nvPr/>
        </p:nvSpPr>
        <p:spPr>
          <a:xfrm>
            <a:off x="0" y="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10: Objetos y Cl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6"/>
          <p:cNvSpPr/>
          <p:nvPr/>
        </p:nvSpPr>
        <p:spPr>
          <a:xfrm>
            <a:off x="0" y="883908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1º de septiembre (J.Alvarez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D5521-03D1-44A8-BE8B-6301087620FB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453E4-250C-4A2D-B848-400181CCE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321EC-1B28-40B6-8D51-90F62470B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2EFB3-9606-4F29-ADCA-40EA023DD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7480A-50D1-4711-8835-BE70B09B7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0AB7E-4201-4F3C-B7B9-E0E0910F0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131D2-15FC-40F4-B8E6-7C04F3C18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C7347-7F21-46C1-8134-2366C3364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1E0AF-014D-49D9-8538-9212EF351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16AF1-9AAB-4582-B6AD-675AD9F8C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06424-A184-431C-8D6F-192D2B326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01E30-A9E0-45A7-9935-3E5B76995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6FFD1-1D7C-42B2-BB87-D2F058C1C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5F241-8949-48E1-9A09-7DE9E9BA72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Object 2"/>
          <p:cNvGraphicFramePr/>
          <p:nvPr/>
        </p:nvGraphicFramePr>
        <p:xfrm>
          <a:off x="604800" y="484200"/>
          <a:ext cx="8015400" cy="6723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4800" y="484200"/>
                    <a:ext cx="8015400" cy="672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Object 4"/>
          <p:cNvGraphicFramePr/>
          <p:nvPr/>
        </p:nvGraphicFramePr>
        <p:xfrm>
          <a:off x="698400" y="444600"/>
          <a:ext cx="7683480" cy="6959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8400" y="444600"/>
                    <a:ext cx="7683480" cy="695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Object 4"/>
          <p:cNvGraphicFramePr/>
          <p:nvPr/>
        </p:nvGraphicFramePr>
        <p:xfrm>
          <a:off x="1336680" y="878040"/>
          <a:ext cx="7062840" cy="5554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6680" y="878040"/>
                    <a:ext cx="7062840" cy="555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Object 4"/>
          <p:cNvGraphicFramePr/>
          <p:nvPr/>
        </p:nvGraphicFramePr>
        <p:xfrm>
          <a:off x="658800" y="363600"/>
          <a:ext cx="8163000" cy="7059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8800" y="363600"/>
                    <a:ext cx="8163000" cy="705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Object 2"/>
          <p:cNvGraphicFramePr/>
          <p:nvPr/>
        </p:nvGraphicFramePr>
        <p:xfrm>
          <a:off x="330120" y="304920"/>
          <a:ext cx="7950240" cy="7073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0120" y="304920"/>
                    <a:ext cx="7950240" cy="707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Object 2"/>
          <p:cNvGraphicFramePr/>
          <p:nvPr/>
        </p:nvGraphicFramePr>
        <p:xfrm>
          <a:off x="330120" y="419040"/>
          <a:ext cx="8521920" cy="6527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0120" y="419040"/>
                    <a:ext cx="8521920" cy="652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Object 4"/>
          <p:cNvGraphicFramePr/>
          <p:nvPr/>
        </p:nvGraphicFramePr>
        <p:xfrm>
          <a:off x="749160" y="596880"/>
          <a:ext cx="8001000" cy="5562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9160" y="596880"/>
                    <a:ext cx="8001000" cy="556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Object 2"/>
          <p:cNvGraphicFramePr/>
          <p:nvPr/>
        </p:nvGraphicFramePr>
        <p:xfrm>
          <a:off x="752400" y="725400"/>
          <a:ext cx="7504200" cy="6093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2400" y="725400"/>
                    <a:ext cx="7504200" cy="609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Object 2"/>
          <p:cNvGraphicFramePr/>
          <p:nvPr/>
        </p:nvGraphicFramePr>
        <p:xfrm>
          <a:off x="577800" y="523800"/>
          <a:ext cx="8148600" cy="5904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7800" y="523800"/>
                    <a:ext cx="8148600" cy="590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Object 4"/>
          <p:cNvGraphicFramePr/>
          <p:nvPr/>
        </p:nvGraphicFramePr>
        <p:xfrm>
          <a:off x="711360" y="469800"/>
          <a:ext cx="7734240" cy="6274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1360" y="469800"/>
                    <a:ext cx="7734240" cy="627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Object 4"/>
          <p:cNvGraphicFramePr/>
          <p:nvPr/>
        </p:nvGraphicFramePr>
        <p:xfrm>
          <a:off x="723960" y="558720"/>
          <a:ext cx="8051760" cy="6248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3960" y="558720"/>
                    <a:ext cx="8051760" cy="624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Object 4"/>
          <p:cNvGraphicFramePr/>
          <p:nvPr/>
        </p:nvGraphicFramePr>
        <p:xfrm>
          <a:off x="830160" y="746280"/>
          <a:ext cx="7526520" cy="5738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0160" y="746280"/>
                    <a:ext cx="7526520" cy="573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0T15:21:23Z</dcterms:created>
  <dc:creator>jalvarez</dc:creator>
  <dc:description/>
  <dc:language>en-US</dc:language>
  <cp:lastModifiedBy>nbaloian</cp:lastModifiedBy>
  <cp:lastPrinted>2006-04-08T15:00:39Z</cp:lastPrinted>
  <dcterms:modified xsi:type="dcterms:W3CDTF">2010-04-23T21:03:18Z</dcterms:modified>
  <cp:revision>66</cp:revision>
  <dc:subject/>
  <dc:title>Sin título de diapositiva</dc:title>
</cp:coreProperties>
</file>