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43548-AD57-4C7D-B834-3EA625A08F8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49D1-7391-4E4D-9C34-858E9DE8CF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F4C1-788D-4BBF-92EE-F011DAEEC6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F1F0-3A88-4CC7-8399-B18ED50AB51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A21E-9B4D-4E4D-B1AC-44F1E8899B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FB92-BBE2-4DF7-A15A-2850E3B12BB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2489-BFA4-4FB5-BE65-567AD875C77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C6C1-7EC1-4E76-B19A-E4A14911D54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1CFA-C959-4EB3-A09F-B757BC4BF75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8550-9526-434B-9FF4-BCC3FC4727F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F411-31F2-4C5A-A054-E5E5F9CB3E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61F2-8556-4531-8E2E-081AAF9922F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10: Objetos y Cl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º de septiembre (J.Alvare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0A78-2749-428D-B6D8-5CEE71417CB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EBD-C1AA-4E9D-9204-E867D0C13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46EA-D627-4374-B197-49963878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C2C-9615-4504-89F4-E8F22508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CAE2-A930-4F30-878A-FF7512A5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2212-E277-49E3-BF43-A8AB8A96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D125-1075-4B87-A3E7-D1FB823E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7A56-10ED-49CB-90B5-FB11D26D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A807-19B9-4EB6-B006-4C22A8C1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CC6B-A12A-44AC-B510-5DE4EB109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CDB0-BBCB-44B1-AB5D-8AC96383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CBB-0491-451D-98F3-013484C8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76C-616E-4535-9382-F0A2B1C6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2DC8-0AA7-44BD-8451-8ED3CDA0A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604800" y="484200"/>
          <a:ext cx="8015400" cy="67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84200"/>
                    <a:ext cx="8015400" cy="67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698400" y="444600"/>
          <a:ext cx="7683480" cy="695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44600"/>
                    <a:ext cx="768348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4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4"/>
          <p:cNvGraphicFramePr/>
          <p:nvPr/>
        </p:nvGraphicFramePr>
        <p:xfrm>
          <a:off x="658800" y="363600"/>
          <a:ext cx="8163000" cy="70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63600"/>
                    <a:ext cx="8163000" cy="70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330120" y="304920"/>
          <a:ext cx="7950240" cy="70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304920"/>
                    <a:ext cx="7950240" cy="70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330120" y="419040"/>
          <a:ext cx="8521920" cy="652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0120" y="419040"/>
                    <a:ext cx="8521920" cy="65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4"/>
          <p:cNvGraphicFramePr/>
          <p:nvPr/>
        </p:nvGraphicFramePr>
        <p:xfrm>
          <a:off x="749160" y="596880"/>
          <a:ext cx="80010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596880"/>
                    <a:ext cx="80010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52400" y="725400"/>
          <a:ext cx="7504200" cy="609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725400"/>
                    <a:ext cx="7504200" cy="609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577800" y="523800"/>
          <a:ext cx="8148600" cy="59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523800"/>
                    <a:ext cx="81486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4"/>
          <p:cNvGraphicFramePr/>
          <p:nvPr/>
        </p:nvGraphicFramePr>
        <p:xfrm>
          <a:off x="711360" y="469800"/>
          <a:ext cx="7734240" cy="627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69800"/>
                    <a:ext cx="773424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723960" y="558720"/>
          <a:ext cx="80517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558720"/>
                    <a:ext cx="80517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4"/>
          <p:cNvGraphicFramePr/>
          <p:nvPr/>
        </p:nvGraphicFramePr>
        <p:xfrm>
          <a:off x="830160" y="746280"/>
          <a:ext cx="752652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0160" y="746280"/>
                    <a:ext cx="75265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nbaloian</cp:lastModifiedBy>
  <cp:lastPrinted>2006-04-08T15:00:39Z</cp:lastPrinted>
  <dcterms:modified xsi:type="dcterms:W3CDTF">2010-04-23T21:03:18Z</dcterms:modified>
  <cp:revision>66</cp:revision>
  <dc:subject/>
  <dc:title>Sin título de diapositiva</dc:title>
</cp:coreProperties>
</file>