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27F9-F4F5-4022-9F2F-B61F4FC7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7ED-F1A2-4563-87B9-EF85479E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BB01-17D4-469E-B253-9A0E6C88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6C5-DF38-494B-AF14-37C4B5C3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8AC-18F9-47EE-9139-9AFA01F5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55FA-98AD-4D54-988D-2FF0169C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929-480B-41A2-B15D-4E754879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57C5-84F1-4364-BCCC-8362EC6E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541-20F9-4B2B-9CC1-33E3C07D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808-1110-4D6E-A160-43AEAF7F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E43B-451E-414A-BF2C-922732E6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4867-CCAB-4E0E-B9DE-EE686327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5D80-C98D-4103-B251-5B141FA1B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2400" y="523800"/>
          <a:ext cx="77994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23800"/>
                    <a:ext cx="77994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41400" y="725400"/>
          <a:ext cx="775800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725400"/>
                    <a:ext cx="775800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38200" y="550800"/>
          <a:ext cx="82962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550800"/>
                    <a:ext cx="82962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50800" y="501480"/>
          <a:ext cx="8167680" cy="55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01480"/>
                    <a:ext cx="8167680" cy="55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77800" y="484200"/>
          <a:ext cx="8458200" cy="74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4200"/>
                    <a:ext cx="8458200" cy="74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82760" y="417600"/>
          <a:ext cx="8530920" cy="63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17600"/>
                    <a:ext cx="8530920" cy="63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482760"/>
          <a:ext cx="85680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82760"/>
                    <a:ext cx="85680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96800" y="457200"/>
          <a:ext cx="8437680" cy="569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57200"/>
                    <a:ext cx="8437680" cy="56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68280" y="368280"/>
          <a:ext cx="8661600" cy="70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368280"/>
                    <a:ext cx="8661600" cy="70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1200" y="417600"/>
          <a:ext cx="8337600" cy="69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17600"/>
                    <a:ext cx="8337600" cy="69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8400" y="673200"/>
          <a:ext cx="71136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1136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68400" y="673200"/>
          <a:ext cx="7327800" cy="59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3278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433440"/>
          <a:ext cx="8121600" cy="602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3440"/>
                    <a:ext cx="812160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5400" y="604800"/>
          <a:ext cx="7704000" cy="55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604800"/>
                    <a:ext cx="770400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93800" y="469800"/>
          <a:ext cx="78390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8390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93800" y="469800"/>
          <a:ext cx="773100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7310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2400" y="511200"/>
          <a:ext cx="78948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11200"/>
                    <a:ext cx="78948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09-04-08T11:00:04Z</dcterms:modified>
  <cp:revision>34</cp:revision>
  <dc:subject/>
  <dc:title>Sin título de diapositiva</dc:title>
</cp:coreProperties>
</file>