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203-5AF2-4FB0-9861-238D122A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C47-595C-4F07-ABFF-EEC33386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5F7-E15F-4044-AC0F-5ED6096A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C6E-165E-40B3-B891-3C5E679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4C7-CBE5-44E2-A512-0ABA1FB2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D12-85EF-44F1-BF24-1D37CCF6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9DD-C8DC-4C4B-92F3-2C6C7FE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FDA-38E0-4597-8A5A-7946271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BA6-B964-4539-A98A-DB0B6418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631-734E-49A2-BCF8-1B665E7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F2B-C27F-487D-BFA7-D13B77C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B6E-35A2-47F6-B74B-86FD80D3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3AF3-DD34-4771-BBB9-53768A12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9-04-08T11:00:04Z</dcterms:modified>
  <cp:revision>34</cp:revision>
  <dc:subject/>
  <dc:title>Sin título de diapositiva</dc:title>
</cp:coreProperties>
</file>