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9423-040E-482F-BCF8-67762EF1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225-BE8D-48F4-AEAD-2F7DF704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8AE-13E4-4D89-B90C-DFA7A512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764-A879-4231-AC74-E592CD9D2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5F77-D062-40A0-B55E-E0A1F5D4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12F-1D0D-494D-8597-2A3DFC2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1C31-E067-43B7-8D96-58164936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BC6C-4F98-45F8-B795-EF85C744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432-ECEE-4784-93B4-97EF3468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CA6A-6550-42C8-8A6A-DE09CAFF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24D-1A45-45DB-9F92-145A4CC2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45C-19CE-46C0-B036-D56ADB74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9439-2D88-40C7-9CD6-710595F8F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en disco: motiv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700280"/>
          <a:ext cx="8569080" cy="4970520"/>
        </p:xfrm>
        <a:graphic>
          <a:graphicData uri="http://schemas.openxmlformats.org/drawingml/2006/table">
            <a:tbl>
              <a:tblPr/>
              <a:tblGrid>
                <a:gridCol w="2252520"/>
                <a:gridCol w="2859120"/>
                <a:gridCol w="34574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ia (RA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 de mem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átil (contenido se pierd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manente (contenido se mantie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ápid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nta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eg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empo acce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ante (a cualquier lug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 (depende de cercanía a cabeza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rato 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00 veces -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c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ada (máx 4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or (máx 500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2400" y="523800"/>
          <a:ext cx="77994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23800"/>
                    <a:ext cx="77994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41400" y="725400"/>
          <a:ext cx="775800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1400" y="725400"/>
                    <a:ext cx="775800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38200" y="550800"/>
          <a:ext cx="82962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550800"/>
                    <a:ext cx="82962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50800" y="501480"/>
          <a:ext cx="8167680" cy="552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01480"/>
                    <a:ext cx="8167680" cy="552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77800" y="484200"/>
          <a:ext cx="8458200" cy="74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4200"/>
                    <a:ext cx="8458200" cy="74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82760" y="417600"/>
          <a:ext cx="8530920" cy="63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17600"/>
                    <a:ext cx="8530920" cy="63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31640" y="482760"/>
          <a:ext cx="85680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482760"/>
                    <a:ext cx="85680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457200"/>
          <a:ext cx="8437680" cy="5695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57200"/>
                    <a:ext cx="843768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68280" y="368280"/>
          <a:ext cx="8661600" cy="70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68280"/>
                    <a:ext cx="8661600" cy="70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11200" y="417600"/>
          <a:ext cx="8337600" cy="69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17600"/>
                    <a:ext cx="8337600" cy="69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968400" y="673200"/>
          <a:ext cx="711360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11360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68400" y="673200"/>
          <a:ext cx="7327800" cy="595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8400" y="673200"/>
                    <a:ext cx="7327800" cy="59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433440"/>
          <a:ext cx="8121600" cy="602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3440"/>
                    <a:ext cx="812160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5400" y="604800"/>
          <a:ext cx="7704000" cy="55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604800"/>
                    <a:ext cx="7704000" cy="55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93800" y="469800"/>
          <a:ext cx="78390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8390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93800" y="469800"/>
          <a:ext cx="773100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469800"/>
                    <a:ext cx="773100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752400" y="511200"/>
          <a:ext cx="7894800" cy="642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511200"/>
                    <a:ext cx="789480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4:59:48Z</dcterms:created>
  <dc:creator>jalvarez</dc:creator>
  <dc:description/>
  <dc:language>en-US</dc:language>
  <cp:lastModifiedBy>jalvarez</cp:lastModifiedBy>
  <cp:lastPrinted>2006-04-04T19:13:56Z</cp:lastPrinted>
  <dcterms:modified xsi:type="dcterms:W3CDTF">2009-04-08T11:00:04Z</dcterms:modified>
  <cp:revision>34</cp:revision>
  <dc:subject/>
  <dc:title>Sin título de diapositiva</dc:title>
</cp:coreProperties>
</file>