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8F3C-A1E9-4BA9-8FE8-CA9527594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9302-1F03-4BE8-A855-4AA7387F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9E90-011E-4780-BD18-850C4F82D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A20C-C1B3-49C3-B661-F4DE268DF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1056-CDBA-46D6-BEB7-BEC52D1E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7D74-1620-4FA1-80A1-3C6DD303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51C2-9103-4559-8767-9AA053F6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6226-2284-4B79-9BC9-AFB5F0E3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9332-B7C9-4944-A8A0-36CDA479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1E1C-ECE3-48B3-91F5-7E4CA1E4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F431-96D3-44ED-B482-CA6450F2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C1AF-8ACC-4CA9-8140-422DFFA6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9F00-D158-4BB1-B98F-6B3CAC5E7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 en disco: motiv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700280"/>
          <a:ext cx="8569080" cy="4970520"/>
        </p:xfrm>
        <a:graphic>
          <a:graphicData uri="http://schemas.openxmlformats.org/drawingml/2006/table">
            <a:tbl>
              <a:tblPr/>
              <a:tblGrid>
                <a:gridCol w="2252520"/>
                <a:gridCol w="2859120"/>
                <a:gridCol w="3457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ia (RA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de memo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átil (contenido se pierd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manente (contenido se mantie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lo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pid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t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mpo ac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ante (a cualquier luga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 (depende de cercanía a cabez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ato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0 veces -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itada (máx 4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or (máx 500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52400" y="523800"/>
          <a:ext cx="7799400" cy="61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523800"/>
                    <a:ext cx="779940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41400" y="725400"/>
          <a:ext cx="7758000" cy="64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1400" y="725400"/>
                    <a:ext cx="7758000" cy="64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38200" y="550800"/>
          <a:ext cx="82962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550800"/>
                    <a:ext cx="82962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50800" y="501480"/>
          <a:ext cx="8167680" cy="552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01480"/>
                    <a:ext cx="8167680" cy="55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77800" y="484200"/>
          <a:ext cx="8458200" cy="740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484200"/>
                    <a:ext cx="8458200" cy="74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82760" y="417600"/>
          <a:ext cx="8530920" cy="634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17600"/>
                    <a:ext cx="8530920" cy="63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31640" y="482760"/>
          <a:ext cx="8568000" cy="644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82760"/>
                    <a:ext cx="8568000" cy="64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96800" y="457200"/>
          <a:ext cx="8437680" cy="569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57200"/>
                    <a:ext cx="8437680" cy="56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68280" y="368280"/>
          <a:ext cx="8661600" cy="70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368280"/>
                    <a:ext cx="8661600" cy="70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11200" y="417600"/>
          <a:ext cx="8337600" cy="691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17600"/>
                    <a:ext cx="8337600" cy="69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68400" y="673200"/>
          <a:ext cx="711360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673200"/>
                    <a:ext cx="711360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68400" y="673200"/>
          <a:ext cx="7327800" cy="595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673200"/>
                    <a:ext cx="732780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5800" y="433440"/>
          <a:ext cx="8121600" cy="602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33440"/>
                    <a:ext cx="8121600" cy="602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95400" y="604800"/>
          <a:ext cx="7704000" cy="55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604800"/>
                    <a:ext cx="7704000" cy="55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93800" y="469800"/>
          <a:ext cx="7839000" cy="613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469800"/>
                    <a:ext cx="7839000" cy="61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93800" y="469800"/>
          <a:ext cx="7731000" cy="605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469800"/>
                    <a:ext cx="7731000" cy="60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52400" y="511200"/>
          <a:ext cx="78948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511200"/>
                    <a:ext cx="78948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4:59:48Z</dcterms:created>
  <dc:creator>jalvarez</dc:creator>
  <dc:description/>
  <dc:language>en-US</dc:language>
  <cp:lastModifiedBy>jalvarez</cp:lastModifiedBy>
  <cp:lastPrinted>2006-04-04T19:13:56Z</cp:lastPrinted>
  <dcterms:modified xsi:type="dcterms:W3CDTF">2009-04-08T11:00:04Z</dcterms:modified>
  <cp:revision>34</cp:revision>
  <dc:subject/>
  <dc:title>Sin título de diapositiva</dc:title>
</cp:coreProperties>
</file>