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013-A3F2-4F32-9AC1-C646303D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733-636B-4323-A51C-417B0AEF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0D3-13B2-423F-8C81-6207E94A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ACA-BF30-4823-A471-2CF8E6D6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74C-755F-4A12-B5CB-A47B79A0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199-4E4A-40FA-B89E-087D23AC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CD2-1611-45C6-9729-BDAC6039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9F7-B5CD-45C3-BAD2-7313374C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BAB-8CA9-45CA-93AF-57931D54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8E1-1EE9-4DB2-B841-51D4AB5F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384-F094-4CAF-92E6-372DC38F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ED2-332F-447A-AFFC-22365B5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CC34-C6D9-4EFE-A65F-D665440F8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0800" y="501480"/>
          <a:ext cx="816768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01480"/>
                    <a:ext cx="816768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2760" y="417600"/>
          <a:ext cx="8530920" cy="63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17600"/>
                    <a:ext cx="8530920" cy="63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82760"/>
          <a:ext cx="85680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82760"/>
                    <a:ext cx="85680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57200"/>
          <a:ext cx="8437680" cy="56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43768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9-04-08T11:00:04Z</dcterms:modified>
  <cp:revision>34</cp:revision>
  <dc:subject/>
  <dc:title>Sin título de diapositiva</dc:title>
</cp:coreProperties>
</file>