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E466-A9C2-4C64-A44D-18746CC9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17E-91FD-45F2-82D2-058929F2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620-3531-44FF-B94A-A0562359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6EB-CA53-4F4E-A9CA-87333D28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85C8-12E6-4968-87F3-3AE753FD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01C-179F-459B-A245-7904A46E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E4F0-41EF-4F4C-9226-40948A68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4BB0-E255-43D4-8CF6-6B46B7E3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593-2278-4148-AD84-36DB140B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23B-357F-4A99-AD91-BEF3F746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443-C059-4F5E-A883-7E46AD36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7028-DC84-477B-BFB0-73DDD20A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B3A8-53DD-46E8-9B01-8BBE0C4A3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54240" y="966960"/>
          <a:ext cx="7145280" cy="525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4240" y="966960"/>
                    <a:ext cx="714528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04640"/>
          <a:ext cx="819144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4640"/>
                    <a:ext cx="819144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17600"/>
          <a:ext cx="8269560" cy="65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17600"/>
                    <a:ext cx="8269560" cy="65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880" y="482760"/>
          <a:ext cx="850896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82760"/>
                    <a:ext cx="850896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495360"/>
          <a:ext cx="8242560" cy="58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95360"/>
                    <a:ext cx="824256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92040" y="444600"/>
          <a:ext cx="8464680" cy="56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444600"/>
                    <a:ext cx="846468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437760"/>
            <a:ext cx="8642160" cy="59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dibujar un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tring[]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obtener longitud del 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=U.readInt(“lado cuadrado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primer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 repetir(“* “,n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n-2 líneas intermed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=1; i&lt;=n-2; ++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“* “ + repetir(“ “,n-2) + ”*“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últim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 repetir(“* “,n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482760"/>
          <a:ext cx="8420040" cy="67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420040" cy="67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4360" y="260280"/>
            <a:ext cx="7772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692280"/>
            <a:ext cx="81374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ver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//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: inverso(“roma”) =“am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lindrom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//palabra capicú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rome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fabe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alfabetico(“hola”)=true, alfabetico(“123”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Vál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válido(“123”,”0123456789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emplaz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Palab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int x)//de 3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enPalabras(666) entrega “seis cientos sesenta y sei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seInteg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20840" y="444600"/>
          <a:ext cx="8615160" cy="637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44600"/>
                    <a:ext cx="8615160" cy="63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6760" y="843120"/>
          <a:ext cx="723096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843120"/>
                    <a:ext cx="72309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9520" y="809640"/>
          <a:ext cx="7446960" cy="54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809640"/>
                    <a:ext cx="744696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630360"/>
          <a:ext cx="7583400" cy="58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630360"/>
                    <a:ext cx="758340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4480" y="522360"/>
          <a:ext cx="768024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480" y="522360"/>
                    <a:ext cx="768024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06600" y="692280"/>
          <a:ext cx="82134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134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5640" y="836640"/>
          <a:ext cx="7899480" cy="54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36640"/>
                    <a:ext cx="789948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09-04-02T12:10:49Z</dcterms:modified>
  <cp:revision>39</cp:revision>
  <dc:subject/>
  <dc:title>Sin título de diapositiva</dc:title>
</cp:coreProperties>
</file>