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859C-3A35-480F-A3A8-4FA1BD7F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22BA-B415-46F9-8BBB-5911BC43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C49A-5498-4E22-AAA6-00D434330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9F86-7638-46CB-BB3C-1F3841919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BE91-1E53-4B15-B329-8741D3B8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77A0-A517-4B83-9D77-5DFDC61F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7775-1CCD-40B4-8CAD-B307E9C1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4B1A-0B46-4BDC-850B-F6C111D1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201C-41D7-4758-97DC-D535CD2A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0565-A554-47E4-8674-7C66E037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C904-73EB-4B0A-A7EF-D65B58C0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7848-3F4C-4115-A658-B9FF4CFD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C2D2-00E3-4944-B373-3EC029FE0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54240" y="966960"/>
          <a:ext cx="7145280" cy="525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4240" y="966960"/>
                    <a:ext cx="7145280" cy="52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606600" y="816120"/>
          <a:ext cx="8064360" cy="5432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816120"/>
                    <a:ext cx="8064360" cy="54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04640"/>
          <a:ext cx="8191440" cy="670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4640"/>
                    <a:ext cx="8191440" cy="67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69800" y="417600"/>
          <a:ext cx="8269560" cy="651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17600"/>
                    <a:ext cx="8269560" cy="65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80880" y="482760"/>
          <a:ext cx="8508960" cy="669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82760"/>
                    <a:ext cx="8508960" cy="66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31640" y="495360"/>
          <a:ext cx="8242560" cy="58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495360"/>
                    <a:ext cx="8242560" cy="58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92040" y="444600"/>
          <a:ext cx="8464680" cy="562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444600"/>
                    <a:ext cx="8464680" cy="56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20" y="437760"/>
            <a:ext cx="8642160" cy="59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dibujar un cuad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 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String[]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obtener longitud del l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n=U.readInt(“lado cuadrado?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mostrar primera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.println( repetir(“* “,n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mostrar n-2 líneas intermed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int i=1; i&lt;=n-2; ++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.println(“* “ + repetir(“ “,n-2) + ”*“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mostrar última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.println( repetir(“* “,n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57200" y="482760"/>
          <a:ext cx="8420040" cy="673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82760"/>
                    <a:ext cx="8420040" cy="67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4360" y="260280"/>
            <a:ext cx="7772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s pro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692280"/>
            <a:ext cx="813744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ver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)//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: inverso(“roma”) =“amo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lindrom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)//palabra capicú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palindrome(“reconocer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fabet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alfabetico(“hola”)=true, alfabetico(“123”)=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Válid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,String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válido(“123”,”0123456789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emplaza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,String y,String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reemplazar(“abcde”,”bc”,”BC”)=“aBC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Palabr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int x)//de 3 díg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enPalabras(666) entrega “seis cientos sesenta y sei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t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rseInteg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41320" y="915840"/>
          <a:ext cx="7718400" cy="530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915840"/>
                    <a:ext cx="7718400" cy="530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20840" y="444600"/>
          <a:ext cx="8615160" cy="637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444600"/>
                    <a:ext cx="8615160" cy="637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166760" y="843120"/>
          <a:ext cx="723096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843120"/>
                    <a:ext cx="723096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109520" y="809640"/>
          <a:ext cx="7446960" cy="542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809640"/>
                    <a:ext cx="7446960" cy="54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50840" y="630360"/>
          <a:ext cx="7583400" cy="58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630360"/>
                    <a:ext cx="7583400" cy="58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44480" y="522360"/>
          <a:ext cx="768024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4480" y="522360"/>
                    <a:ext cx="768024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41320" y="642960"/>
          <a:ext cx="5702400" cy="786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42960"/>
                    <a:ext cx="5702400" cy="786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606600" y="692280"/>
          <a:ext cx="8213400" cy="8386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692280"/>
                    <a:ext cx="8213400" cy="83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55640" y="836640"/>
          <a:ext cx="7899480" cy="542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836640"/>
                    <a:ext cx="7899480" cy="54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2:56:39Z</dcterms:created>
  <dc:creator>jalvarez</dc:creator>
  <dc:description/>
  <dc:language>en-US</dc:language>
  <cp:lastModifiedBy>jalvarez</cp:lastModifiedBy>
  <cp:lastPrinted>2006-03-30T20:21:23Z</cp:lastPrinted>
  <dcterms:modified xsi:type="dcterms:W3CDTF">2009-04-02T12:10:49Z</dcterms:modified>
  <cp:revision>39</cp:revision>
  <dc:subject/>
  <dc:title>Sin título de diapositiva</dc:title>
</cp:coreProperties>
</file>