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221-2143-49EB-9305-E39E06EA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778-ABDF-4158-BE34-E8FA1572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97F-694C-40E9-88A9-BE75592F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EE8-27A3-4018-9951-3A8D3EC9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5D6-3610-4088-80AE-DE1340C9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2A3-6858-40A6-908A-D82A9DF9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F9C-9E6D-48B4-939A-F60ABC6A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10D-122E-46FD-9EFB-99B0BA30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411-A649-4823-8C6E-3F55C22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0B2-3175-43CB-873C-E23C92B6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CF4-7279-454F-AA49-3CD7DA56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8F6-909C-4EC8-9663-081271AA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761C-5B3C-4A25-8710-F57AD6690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4240" y="966960"/>
          <a:ext cx="7145280" cy="52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966960"/>
                    <a:ext cx="71452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04640"/>
          <a:ext cx="819144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4640"/>
                    <a:ext cx="819144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17600"/>
          <a:ext cx="826956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17600"/>
                    <a:ext cx="826956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82760"/>
          <a:ext cx="85089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85089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95360"/>
          <a:ext cx="824256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24256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2040" y="444600"/>
          <a:ext cx="84646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44600"/>
                    <a:ext cx="84646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37760"/>
            <a:ext cx="86421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ibujar un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[]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btener longitud del 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U.readInt(“lado cuadrado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primer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n-2 línea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 i&lt;=n-2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* “ + repetir(“ “,n-2) + ”*“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últim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482760"/>
          <a:ext cx="842004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2004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260280"/>
            <a:ext cx="7772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692280"/>
            <a:ext cx="8137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inverso(“roma”) =“a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palabra capicú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Palab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nt x)//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enPalabras(666) entrega “seis cientos sesenta y se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seInteg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9520" y="809640"/>
          <a:ext cx="7446960" cy="54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809640"/>
                    <a:ext cx="744696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4480" y="522360"/>
          <a:ext cx="768024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522360"/>
                    <a:ext cx="768024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836640"/>
          <a:ext cx="789948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8994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9-04-02T12:10:49Z</dcterms:modified>
  <cp:revision>39</cp:revision>
  <dc:subject/>
  <dc:title>Sin título de diapositiva</dc:title>
</cp:coreProperties>
</file>