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C109-6FC6-415B-AC04-3067210D1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1A4C-F6E3-4CE8-B2EB-A5F37CB8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EC8A-AFD4-4D2B-BFA9-594393EF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3065-D132-46D0-8DB2-055A3B273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DDE4-C9F7-4949-BCF4-E5D71B74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8AEE-0BC8-4D2D-A995-96B23FD8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884B-A2EF-4FEE-AED9-89600751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BDF4-3CAF-4B07-A70A-0969A778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CCCF-A3FB-47E7-8C9B-EACC7743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1C05-B205-4B03-9372-BB60B9D1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43F2-F2AB-43BF-A545-2B863FFE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6C20-0960-4670-A6FD-70E44253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6F7E-71FA-448A-8DA0-371993913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3059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Repaso/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836640"/>
            <a:ext cx="829476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lectura/escritura y asign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fun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selección de instrucciones (if-el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repetición de instrucciones (whi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recurs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operadores/instrucciones especi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14440" y="495360"/>
          <a:ext cx="8153280" cy="670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95360"/>
                    <a:ext cx="815328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nciones Recurs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//factorial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static public int factorial(int x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if(x==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return 1; //caso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return x*factorial(x-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static public int factorial(int x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if(x==0) return 1; //caso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return x*factorial(x-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60280"/>
            <a:ext cx="8686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nciones Recurs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1268280"/>
            <a:ext cx="89647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i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i&lt;=2) return i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-1)+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-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(x,y)=c(x-1,y)+c(x-1,y-1); c(x,x)=c(x,0)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==y || y==0) return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-1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-1,y-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0"/>
            <a:ext cx="836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étodos void recurs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765000"/>
            <a:ext cx="88930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tatic public void misterio(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nt n=U.readInt(“nº?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(n==0) 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misterio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U.println(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¿Qué hace misterio(); con los sgtes dat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eradores espe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ouble suma, mayor, numero; 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a = mayor = n = 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mero=U.readDouble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nº?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&gt;0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prom=”+(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uma+=numer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)/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++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ayor=max(numero,mayo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mayor=“+mayo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double max(double x,double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x&gt;y ? x : y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260280"/>
            <a:ext cx="8686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? en Funciones Recurs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1268280"/>
            <a:ext cx="89647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i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i&lt;=2? i-1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-1)+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-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==y || y==0 ? 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-1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-1,y-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strucciones espe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//cuentaRegresiva en palab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U.println(“diez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or(int i=9; i&gt;=0; --i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Digito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U.print(“\n”); //U.println(“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ombinaciones entre díg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(int x=0,n=0; x&lt;=9; ++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(int y=x+1; y&lt;=9; ++y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//int y=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!=y) U.println(++n +”:”+x +“,“+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scri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1:0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2:0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º:9,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69800" y="330120"/>
          <a:ext cx="8318520" cy="699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330120"/>
                    <a:ext cx="8318520" cy="699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95360" y="419040"/>
          <a:ext cx="8191440" cy="66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19040"/>
                    <a:ext cx="8191440" cy="66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7200" y="380880"/>
          <a:ext cx="8458200" cy="653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458200" cy="653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: operador de resto de di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125360"/>
            <a:ext cx="89647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invertir entero de 3 díg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=U.readInt(“Nº 3 dígitos?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d1=n/100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3=n%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d2=n%100/10;//int d2=n/10%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inverso=”+d3+d2+d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//cajero autom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nt d=U.readInt(“¿Cuánto dinero necesita?”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U.println(d/20000+”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de $20.000”);d=d%20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,println(d/10000+” de $10.000”);d=d%10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d/5000+” de $5.000”);d=d%5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d/2000+” de $2.000”);d=d%2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d/1000+” de $1.000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2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gramas lineales con ejecución de funciones predefin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41360" y="1003320"/>
          <a:ext cx="856620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360" y="1003320"/>
                    <a:ext cx="856620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gramas lineales con ejecución de funciones definidas por el program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6756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</a:rPr>
              <a:t>//seleccionar mayor entre dos fec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(String[]args)throws IOException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f1=U.readInt(“fecha1(ddmmaaaa)?”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f2=U.readInt(“fecha2(ddmmaaaa)?”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“mayor=“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ddmmaaaa(Math.max(aaaammdd(f1),aaaammdd(f2))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</a:rPr>
              <a:t>//convertir fecha ddmmaaaa a la forma aaaamm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aaaammdd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dd=x/1000000, mm=x/10000%100, aaaa=x%10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turn aaaa*10000 + mm*100 + d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</a:rPr>
              <a:t>//convertir fecha aaaammdd a la forma ddmma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ddmmaaaa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dd=x%100, mm=x%10000/100, aaaa=x/10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turn dd*1000000 + mm*10000 + aaa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elección instrucciones (if-el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asM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m,int a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m==1||m==3||m==5||m==7||m==8||m==10||m==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3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 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m==4||m==6||m==9||m==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3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f(m==2)//if(cond simple) sin 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bisiesto(a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29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2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0;//mes in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bisiest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%4==0 &amp;&amp; x%100!=0 || x%400=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97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petición instrucciones (whi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765000"/>
            <a:ext cx="84247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tabla celsius - fahrenh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g=-2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g&lt;=40)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g+”ºC=“+(9.0/5.0*g+32)+”ºF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g=g+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static public double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potencia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(double x,int y)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f(y==0 &amp;&amp; x==0) U.abortar(“0^0 indefinido”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double producto=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i=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i&lt;=Math.abs(y)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producto=producto*x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f(y&gt;=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turn product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turn 1/produc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9280" y="2746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trones para proceso de 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1413000"/>
            <a:ext cx="864072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ïnicializar             //inicial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mayor=0;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int mayor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leer 1º                 //repetir siemp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n=U.readInt(“nº?”);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repetir mientras          //le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n!=0){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int n=U.readInt(“nº?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procesar                //condición de térm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n&gt;mayor) mayor=n;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if(n==0)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leer sgte               //proc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=U.readInt(“nº?”);       mayor=Math.max(mayor,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                        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finalizar                //finalizar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mayor=“+mayor); U.println(“mayor=“+mayo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14440" y="495360"/>
          <a:ext cx="8143920" cy="67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95360"/>
                    <a:ext cx="8143920" cy="67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3:16:51Z</dcterms:created>
  <dc:creator> iara</dc:creator>
  <dc:description/>
  <dc:language>en-US</dc:language>
  <cp:lastModifiedBy>jalvarez</cp:lastModifiedBy>
  <cp:lastPrinted>2006-04-25T18:59:03Z</cp:lastPrinted>
  <dcterms:modified xsi:type="dcterms:W3CDTF">2009-03-31T12:31:19Z</dcterms:modified>
  <cp:revision>55</cp:revision>
  <dc:subject/>
  <dc:title>Diapositiva 1</dc:title>
</cp:coreProperties>
</file>