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0400-0119-4279-A3A4-466E4796A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7D0E-0F08-4269-95DA-F05662F9C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9EFE-FD69-45AD-AB5E-0C5939478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C6F8-63ED-4BC8-9B80-FD25848DC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9E2D-E543-454C-BF60-948EF8622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D774-3208-496A-9CA1-1C4EB32E3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470E-C9F8-4AF2-97A6-582C94A4B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B2C6-5BB5-48C0-A0EB-3786B1628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45AA-6027-49C4-9ACC-E8A7E494B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B98C-CA32-4F73-98D7-948EFE4C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EF60-EE28-4E5A-A8F2-7020237EF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BE31-BCB3-495B-AA88-106F89952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19A3D-87C2-433E-B438-606E14814E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274680"/>
            <a:ext cx="83059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Repaso/resu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836640"/>
            <a:ext cx="8294760" cy="56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lectura/escritura y asign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funci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selección de instrucciones (if-els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repetición de instrucciones (whi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recurs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operadores/instrucciones especi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514440" y="495360"/>
          <a:ext cx="8153280" cy="6705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440" y="495360"/>
                    <a:ext cx="8153280" cy="670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686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unciones Recurs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964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ourier New"/>
              </a:rPr>
              <a:t>//factorial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ourier New"/>
              </a:rPr>
              <a:t>static public int factorial(int x)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if(x==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return 1; //caso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return x*factorial(x-1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ourier New"/>
              </a:rPr>
              <a:t>static public int factorial(int x)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if(x==0) return 1; //caso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return x*factorial(x-1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260280"/>
            <a:ext cx="86868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unciones Recurs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9280" y="1268280"/>
            <a:ext cx="896472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ibonacci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i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i&lt;=2) return i-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ibonacci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-1)+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ibonacci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-2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c(x,y)=c(x-1,y)+c(x-1,y-1); c(x,x)=c(x,0)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combinaciones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x,int y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x==y || y==0) return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combinaciones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x-1,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+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combinaciones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x-1,y-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24000" y="0"/>
            <a:ext cx="83628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étodos void recurs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765000"/>
            <a:ext cx="889308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static public void misterio(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int n=U.readInt(“nº?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if(n==0) retur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misterio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U.println(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¿Qué hace misterio(); con los sgtes dat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nº?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nº?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nº?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nº?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peradores espec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ouble suma, mayor, numero; 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ma = mayor = n = 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le(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umero=U.readDouble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nº?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&gt;0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prom=”+(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suma+=numer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)/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++n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mayor=max(numero,mayor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mayor=“+mayor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double max(double x,double y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x&gt;y ? x : y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260280"/>
            <a:ext cx="86868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? en Funciones Recurs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79280" y="1268280"/>
            <a:ext cx="896472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ibonacci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i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i&lt;=2? i-1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ibonacci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-1)+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ibonacci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-2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combinaciones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x,int y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x==y || y==0 ? 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combinaciones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x-1,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+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combinaciones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x-1,y-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strucciones espec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9280" y="765000"/>
            <a:ext cx="878544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//cuentaRegresiva en palab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U.println(“diez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for(int i=9; i&gt;=0; --i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Digito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U.print(“\n”); //U.println(“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combinaciones entre dígi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or(int x=0,n=0; x&lt;=9; ++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or(int y=x+1; y&lt;=9; ++y)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//int y=0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x!=y) U.println(++n +”:”+x +“,“+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Escri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1:0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2:0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nº:9,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469800" y="330120"/>
          <a:ext cx="8318520" cy="699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330120"/>
                    <a:ext cx="8318520" cy="699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495360" y="419040"/>
          <a:ext cx="8191440" cy="667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419040"/>
                    <a:ext cx="8191440" cy="66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57200" y="380880"/>
          <a:ext cx="8458200" cy="6534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0880"/>
                    <a:ext cx="8458200" cy="653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%: operador de resto de div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9280" y="1125360"/>
            <a:ext cx="896472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invertir entero de 3 dígi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n=U.readInt(“Nº 3 dígitos?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d1=n/100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3=n%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d2=n%100/10;//int d2=n/10%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inverso=”+d3+d2+d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//cajero automá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int d=U.readInt(“¿Cuánto dinero necesita?”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U.println(d/20000+”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de $20.000”);d=d%2000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,println(d/10000+” de $10.000”);d=d%1000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d/5000+” de $5.000”);d=d%500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d/2000+” de $2.000”);d=d%200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d/1000+” de $1.000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0024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gramas lineales con ejecución de funciones predefini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41360" y="1003320"/>
          <a:ext cx="8566200" cy="618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360" y="1003320"/>
                    <a:ext cx="8566200" cy="61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gramas lineales con ejecución de funciones definidas por el program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6756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urier New"/>
              </a:rPr>
              <a:t>//seleccionar mayor entre dos fech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s-ES" sz="16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(String[]args)throws IOException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int f1=U.readInt(“fecha1(ddmmaaaa)?”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f2=U.readInt(“fecha2(ddmmaaaa)?”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U.println(“mayor=“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ddmmaaaa(Math.max(aaaammdd(f1),aaaammdd(f2))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urier New"/>
              </a:rPr>
              <a:t>//convertir fecha ddmmaaaa a la forma aaaamm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aaaammdd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(int x)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int dd=x/1000000, mm=x/10000%100, aaaa=x%1000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return aaaa*10000 + mm*100 + d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urier New"/>
              </a:rPr>
              <a:t>//convertir fecha aaaammdd a la forma ddmmaa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ddmmaaaa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(int x)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int dd=x%100, mm=x%10000/100, aaaa=x/1000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return dd*1000000 + mm*10000 + aaa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elección instrucciones (if-els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1440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diasMes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m,int a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m==1||m==3||m==5||m==7||m==8||m==10||m==1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3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lse i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m==4||m==6||m==9||m==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3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if(m==2)//if(cond simple) sin 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bisiesto(a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29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28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0;//mes incorr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bisiest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x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x%4==0 &amp;&amp; x%100!=0 || x%400==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497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petición instrucciones (whi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765000"/>
            <a:ext cx="842472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//tabla celsius - fahrenh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int g=-2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(g&lt;=40)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U.println(g+”ºC=“+(9.0/5.0*g+32)+”ºF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g=g+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static public double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potencia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(double x,int y)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if(y==0 &amp;&amp; x==0) U.abortar(“0^0 indefinido”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double producto=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int i=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(i&lt;=Math.abs(y))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producto=producto*x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i=i+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if(y&gt;=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return producto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return 1/product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79280" y="274680"/>
            <a:ext cx="878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trones para proceso de li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9280" y="1413000"/>
            <a:ext cx="864072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ïnicializar             //inicializ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nt mayor=0;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int mayor=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leer 1º                 //repetir siemp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nt n=U.readInt(“nº?”);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while(true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repetir mientras          //le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n!=0){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int n=U.readInt(“nº?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procesar                //condición de térm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(n&gt;mayor) mayor=n;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if(n==0)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leer sgte               //proces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n=U.readInt(“nº?”);       mayor=Math.max(mayor,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                        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finalizar                //finalizar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“mayor=“+mayor); U.println(“mayor=“+mayor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514440" y="495360"/>
          <a:ext cx="8143920" cy="674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440" y="495360"/>
                    <a:ext cx="8143920" cy="67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3T13:16:51Z</dcterms:created>
  <dc:creator> iara</dc:creator>
  <dc:description/>
  <dc:language>en-US</dc:language>
  <cp:lastModifiedBy>jalvarez</cp:lastModifiedBy>
  <cp:lastPrinted>2006-04-25T18:59:03Z</cp:lastPrinted>
  <dcterms:modified xsi:type="dcterms:W3CDTF">2009-03-31T12:31:19Z</dcterms:modified>
  <cp:revision>55</cp:revision>
  <dc:subject/>
  <dc:title>Diapositiva 1</dc:title>
</cp:coreProperties>
</file>