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262E-D794-44A8-9E24-0A089BAC5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A465-EA39-4F8D-A8B0-A6DB118A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A5D1-D40D-4CC2-8579-6F71CF607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68E-BE4E-463C-97DF-78417925D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D96-5886-4C51-913B-6A0F6622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3693-BFC8-41E7-A09D-7D3BAE5F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737-1689-43FB-B826-6E584DD1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E1CC-1C95-48E1-8AD6-E6FBAF88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798-C172-44C4-9E10-4936BBEC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2AFA-CA59-4EA5-A258-847CC635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B0C7-3F20-4851-8192-198CAF65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FB41-8F10-477D-ADA2-F5645929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9141-0A36-475D-AAC5-F63660555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f-el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whi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operadores/instrucciones espec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514440" y="495360"/>
          <a:ext cx="8153280" cy="6705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53280" cy="670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//factorial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static public int factorial(int 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if(x==0) return 1; //caso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800" spc="-1" strike="noStrike">
                <a:solidFill>
                  <a:srgbClr val="000000"/>
                </a:solidFill>
                <a:latin typeface="Courier New"/>
              </a:rPr>
              <a:t>return x*factorial(x-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&lt;=2) return i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(x,y)=c(x-1,y)+c(x-1,y-1); c(x,x)=c(x,0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y || 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étodos void recur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tatic public void misterio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n=U.readInt(“nº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n==0) 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U.println(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;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suma, mayor, numero; 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ma = mayor = n = 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hile(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umero=U.readDouble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"nº?"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&gt;0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rom=”+(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+=numer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/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++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ayor=max(numero,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mayor=“+mayo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double max(double x,double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x&gt;y ? x : y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60280"/>
            <a:ext cx="868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en Funciones Recursi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1268280"/>
            <a:ext cx="896472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&lt;=2? i-1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-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==y || y==0 ? 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-1,y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//cuentaRegresiva en palab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ln(“diez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or(int i=9; i&gt;=0; --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printDigito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U.print(“\n”); //U.println(“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mbinaciones entre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x=0,n=0; x&lt;=9; ++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(int y=x+1; y&lt;=9; ++y)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//int y=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!=y) U.println(++n +”:”+x +“,“+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E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1:0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2:0,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nº:9,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69800" y="330120"/>
          <a:ext cx="8318520" cy="699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30120"/>
                    <a:ext cx="8318520" cy="699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95360" y="419040"/>
          <a:ext cx="819144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19040"/>
                    <a:ext cx="819144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458200" cy="653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3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=U.readInt(“Nº 3 dígitos?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d1=n/100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d2=n%100/10;//int d2=n/10%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inverso=”+d3+d2+d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//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int d=U.readInt(“¿Cuánto dinero necesita?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U.println(d/20000+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e $20.000”);d=d%2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,println(d/10000+” de $10.000”);d=d%10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5000+” de $5.000”);d=d%5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2000+” de $2.000”);d=d%2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d/1000+” de $1.000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41360" y="1003320"/>
          <a:ext cx="856620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360" y="1003320"/>
                    <a:ext cx="856620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gramas lineales con ejecución de 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seleccionar mayor entre dos fech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s)throws IOException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f1=U.readInt(“fecha1(ddmmaaaa)?”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f2=U.readInt(“fecha2(ddmmaaaa)?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mayor=“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dmmaaaa(Math.max(aaaammdd(f1),aaaammdd(f2))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ddmmaaaa a la forma aaaamm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/1000000, mm=x/10000%100, aaaa=x%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aaaa*10000 + mm*100 + d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urier New"/>
              </a:rPr>
              <a:t>//convertir fecha aaaammdd a la forma ddmmaa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d=x%100, mm=x%10000/100, aaaa=x/10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dd*1000000 + mm*10000 + aaa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instrucciones (if-el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m,int a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1||m==3||m==5||m==7||m==8||m==10||m==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 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==4||m==6||m==9||m==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f(m==2)//if(cond simple) sin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bisiesto(a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;//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etición instrucciones (wh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42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tabla celsius - fahr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g=-2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g&lt;=40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g+”ºC=“+(9.0/5.0*g+32)+”ºF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g=g+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tatic public double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(double x,int y)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==0 &amp;&amp; x==0) U.abortar(“0^0 indefinido”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double producto=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&lt;=Math.abs(y))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producto=producto*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f(y&gt;=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producto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1/produc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trones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ïnicializar             //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mayor=0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int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1º                 //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n=U.readInt(“nº?”)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(true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repetir mientras          //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n!=0){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nt n=U.readInt(“nº?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procesar                //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n&gt;mayor) mayor=n;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if(n==0)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leer sgte               //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U.readInt(“nº?”);       mayor=Math.max(mayor,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                        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//finalizar                //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mayor=“+mayor); U.println(“mayor=“+mayo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514440" y="495360"/>
          <a:ext cx="8143920" cy="67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5360"/>
                    <a:ext cx="8143920" cy="67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9-03-31T12:31:19Z</dcterms:modified>
  <cp:revision>55</cp:revision>
  <dc:subject/>
  <dc:title>Diapositiva 1</dc:title>
</cp:coreProperties>
</file>