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2943-DE88-4B19-8C70-20FD78A4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DB35-0252-4D89-95B6-C0B0B302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FEBD-92B2-4B45-B95A-FE830C83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B2AB-5FF6-44F7-89C2-CAD175A4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581C-D255-4080-A8FE-FC26310E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BB58-C392-4722-859D-72C94820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BE46-C36B-4F36-B8ED-09E7122E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4509-606F-4144-BB50-88DA2E44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2F70-0E22-4C7D-8AC9-C6B652B3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0BD4-5AF8-4C97-8D5E-B970912B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00B7-F2EA-463D-91D9-719B8DDD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FCB-DA03-4A69-AB20-F6B11FB1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DBE0-8386-4761-8EC4-81BB25B24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95480" y="601560"/>
          <a:ext cx="7315200" cy="762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601560"/>
                    <a:ext cx="7315200" cy="762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93800" y="722160"/>
          <a:ext cx="812160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722160"/>
                    <a:ext cx="8121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66800" y="681120"/>
          <a:ext cx="7991280" cy="70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81120"/>
                    <a:ext cx="7991280" cy="70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43040" y="803160"/>
          <a:ext cx="790416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79041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30200" y="457200"/>
          <a:ext cx="8659800" cy="62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57200"/>
                    <a:ext cx="86598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96800" y="646200"/>
          <a:ext cx="8472600" cy="68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646200"/>
                    <a:ext cx="8472600" cy="68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38200" y="484200"/>
          <a:ext cx="8458200" cy="720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484200"/>
                    <a:ext cx="8458200" cy="72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50800" y="511200"/>
          <a:ext cx="8337600" cy="68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33760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50800" y="511200"/>
          <a:ext cx="8096400" cy="661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096400" cy="661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s propues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989000"/>
            <a:ext cx="82072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permutaciones(int x,int y) //x!/(x-y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combinaciones(int x,int y) //x!/(y!(x-y)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fibonacci(int i)//entrega i-ésimo nº de Fibona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ros: 0, 1, 1, 2, 3, 5, 8, 13, 21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inverso(int x)//inverso(123) entrega 3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263600" y="793800"/>
          <a:ext cx="705024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793800"/>
                    <a:ext cx="705024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39680" y="779400"/>
          <a:ext cx="7496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779400"/>
                    <a:ext cx="7496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70040" y="480960"/>
          <a:ext cx="8169120" cy="62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16912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70040" y="480960"/>
          <a:ext cx="8024760" cy="64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024760" cy="64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15840" y="619200"/>
          <a:ext cx="737244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19200"/>
                    <a:ext cx="737244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30400" y="927000"/>
          <a:ext cx="735156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7000"/>
                    <a:ext cx="73515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jalvarez</cp:lastModifiedBy>
  <cp:lastPrinted>2006-03-22T18:37:38Z</cp:lastPrinted>
  <dcterms:modified xsi:type="dcterms:W3CDTF">2009-03-23T13:25:22Z</dcterms:modified>
  <cp:revision>30</cp:revision>
  <dc:subject/>
  <dc:title>Sin título de diapositiva</dc:title>
</cp:coreProperties>
</file>