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3BBD-20FC-45D3-B480-60F352E5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8622-C107-4097-9C15-09BF507F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B975-823B-4EB1-8882-1CA0B92D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F50C-1F0F-4E1E-9525-28DB5EC5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846B-7B29-43F2-9F2C-3BED4BCD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97A9-E8AE-49CF-A7E6-FC782F47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83B1-2400-47B2-BB5D-733C6FAA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D02E-A80E-439B-8AEE-3B047176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7593-F134-49FA-A90F-35678B58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23C7-9BFE-4A38-B6AF-83230404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97C9-E182-4715-BBC5-983654B5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5B1E-BA8C-4857-B210-E6249D29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88F0-A26D-4263-884F-F8202CE2C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95480" y="601560"/>
          <a:ext cx="7315200" cy="762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601560"/>
                    <a:ext cx="7315200" cy="762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93800" y="722160"/>
          <a:ext cx="812160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722160"/>
                    <a:ext cx="8121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66800" y="681120"/>
          <a:ext cx="7991280" cy="70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81120"/>
                    <a:ext cx="7991280" cy="70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43040" y="803160"/>
          <a:ext cx="790416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79041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30200" y="457200"/>
          <a:ext cx="8659800" cy="62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57200"/>
                    <a:ext cx="86598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96800" y="646200"/>
          <a:ext cx="8472600" cy="68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646200"/>
                    <a:ext cx="8472600" cy="68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38200" y="484200"/>
          <a:ext cx="8458200" cy="720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484200"/>
                    <a:ext cx="8458200" cy="72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50800" y="511200"/>
          <a:ext cx="8337600" cy="68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33760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50800" y="511200"/>
          <a:ext cx="8096400" cy="661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096400" cy="661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s propues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989000"/>
            <a:ext cx="82072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permutaciones(int x,int y) //x!/(x-y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combinaciones(int x,int y) //x!/(y!(x-y)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fibonacci(int i)//entrega i-ésimo nº de Fibona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ros: 0, 1, 1, 2, 3, 5, 8, 13, 21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inverso(int x)//inverso(123) entrega 3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263600" y="793800"/>
          <a:ext cx="705024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793800"/>
                    <a:ext cx="705024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39680" y="779400"/>
          <a:ext cx="7496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779400"/>
                    <a:ext cx="7496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70040" y="480960"/>
          <a:ext cx="8169120" cy="62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16912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70040" y="480960"/>
          <a:ext cx="8024760" cy="64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024760" cy="64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15840" y="619200"/>
          <a:ext cx="737244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19200"/>
                    <a:ext cx="737244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30400" y="927000"/>
          <a:ext cx="735156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7000"/>
                    <a:ext cx="73515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6-03-22T18:37:38Z</cp:lastPrinted>
  <dcterms:modified xsi:type="dcterms:W3CDTF">2009-03-23T13:25:22Z</dcterms:modified>
  <cp:revision>30</cp:revision>
  <dc:subject/>
  <dc:title>Sin título de diapositiva</dc:title>
</cp:coreProperties>
</file>