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C0C-09E5-48D7-9735-7CFF70B1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C7D-3543-48BD-869B-C5DB4E6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96E-F986-46B4-B7A4-9B8176BD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EBA-A488-416B-B87C-B12DB133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7BE-265B-4DE2-B6D7-23DD8754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A08-FCCE-411C-96F8-A7A6C85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14F-8A01-48D5-8007-DFF28B40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7D7-4ED2-4DA3-8BAF-FAF8AD63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429-7295-4900-BAF6-98074193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CB6-DFA1-43F2-BB77-F2B2CD58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BD9-7C74-4F07-9E8B-11F40A2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F86-FBB5-4DBA-9A11-EB4AD37B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52D7-7D63-4729-AD46-B18953AC5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9-03-23T13:25:22Z</dcterms:modified>
  <cp:revision>30</cp:revision>
  <dc:subject/>
  <dc:title>Sin título de diapositiva</dc:title>
</cp:coreProperties>
</file>