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648-4480-4AE0-88F7-06DEB36B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A75-914F-4208-94FF-CB906E62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38A-828C-4316-BB95-436836B3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007-81AB-406B-AE5A-D87C0E92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9D4-590A-459A-AA64-23E23544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5E1-3A3C-4036-A220-633FF434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3E6-9D1B-4009-A41E-D7926E5F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6BD-34F4-464C-B949-4538427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657-4E47-4609-9819-F86EB32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D1A-D951-4EA5-B06B-699C9DE1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372-C1D5-4701-93F7-8C4C0FFB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5D8-D29E-4E54-9AA0-DE83BC54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C121-C600-4633-A098-080C0A8D2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87280" y="806400"/>
          <a:ext cx="6624720" cy="6051600"/>
        </p:xfrm>
        <a:graphic>
          <a:graphicData uri="http://schemas.openxmlformats.org/drawingml/2006/table">
            <a:tbl>
              <a:tblPr/>
              <a:tblGrid>
                <a:gridCol w="619200"/>
                <a:gridCol w="4205160"/>
                <a:gridCol w="180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0-04-01T11:21:21Z</dcterms:modified>
  <cp:revision>53</cp:revision>
  <dc:subject/>
  <dc:title>Sin título de diapositiva</dc:title>
</cp:coreProperties>
</file>