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912-5889-4A36-9629-4A0654E4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4C9-F055-47C4-9885-3BF34765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552-98A0-4B52-9426-4FC3FEC0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1190-0067-4D21-9A29-DD773669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A15-D32A-4505-AFAC-8BB1E909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CC1-2B27-4F67-A1F3-C1C22FD1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6A6-BD4D-4ABD-AB16-9C766222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3CD-7833-4F8A-9A2E-7BFEC74B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759-B009-458F-AA03-60768363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14D-2DBD-4212-9A17-209D4A9D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F84-3E71-4195-AD85-CEDA12EA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D80-67B7-44E5-8CE2-421D9A19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D996-61F8-4999-8EF9-DAEA3EF01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0120" y="568440"/>
          <a:ext cx="773244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568440"/>
                    <a:ext cx="7732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6560" y="550800"/>
          <a:ext cx="819468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550800"/>
                    <a:ext cx="819468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187280" y="806400"/>
          <a:ext cx="6624720" cy="6051600"/>
        </p:xfrm>
        <a:graphic>
          <a:graphicData uri="http://schemas.openxmlformats.org/drawingml/2006/table">
            <a:tbl>
              <a:tblPr/>
              <a:tblGrid>
                <a:gridCol w="619200"/>
                <a:gridCol w="4205160"/>
                <a:gridCol w="180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uma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79520" y="444600"/>
          <a:ext cx="847872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444600"/>
                    <a:ext cx="847872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092240" y="595440"/>
          <a:ext cx="76341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595440"/>
                    <a:ext cx="76341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09560" y="595440"/>
          <a:ext cx="746604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595440"/>
                    <a:ext cx="746604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90600" y="355680"/>
          <a:ext cx="855828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55680"/>
                    <a:ext cx="85582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99960" y="257040"/>
          <a:ext cx="8309160" cy="695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57040"/>
                    <a:ext cx="8309160" cy="695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0880" y="345960"/>
          <a:ext cx="8602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45960"/>
                    <a:ext cx="8602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0-04-01T11:21:21Z</dcterms:modified>
  <cp:revision>53</cp:revision>
  <dc:subject/>
  <dc:title>Sin título de diapositiva</dc:title>
</cp:coreProperties>
</file>