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575-FDB5-4004-88DF-D6575A19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21E-015B-47FB-8C82-1C79DEEE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EB9-8E38-4FBF-AD49-E9600B22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262-019B-4780-9C3C-191CCAA1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21E-C9A8-48E4-9E72-4A3AF8CA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B6F-CFB1-4368-A19F-4937ACE9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61B-687A-4C09-A0F2-BC06A06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1C2-832F-4358-A8F1-5C084686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6DE-8B3A-411E-A175-FACC7C5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E97-3B70-40CC-84EB-23D8B55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87D-0A31-45EB-B289-9DEA0EC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CC1-77E5-43BA-9F5B-F933F81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06C-779B-487C-9596-76708A129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87280" y="806400"/>
          <a:ext cx="6624720" cy="6051600"/>
        </p:xfrm>
        <a:graphic>
          <a:graphicData uri="http://schemas.openxmlformats.org/drawingml/2006/table">
            <a:tbl>
              <a:tblPr/>
              <a:tblGrid>
                <a:gridCol w="619200"/>
                <a:gridCol w="4205160"/>
                <a:gridCol w="18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0-04-01T11:21:21Z</dcterms:modified>
  <cp:revision>53</cp:revision>
  <dc:subject/>
  <dc:title>Sin título de diapositiva</dc:title>
</cp:coreProperties>
</file>