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FFE-0B15-49B0-B95B-6A3D660F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2A9F-D985-4116-8D70-AFE9AD47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5FD-5A4D-45A0-B333-0EE2FF5F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9FD6-4369-4C7C-9BC1-42BC192A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C28-2EF9-4804-AA92-BB696E29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847-5C4E-4A46-886C-017D3F95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D3A-E698-4BA8-B204-EF65794F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1BF-8200-4E68-BEF8-FA0C6940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19FB-8848-4EF3-99AE-A92F7A86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568-CF11-4EAD-88D9-F7182762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6B8-03C8-4DB7-B02E-747FB9C3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485-795C-4110-9B7E-09B9AA48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9C8D-F778-4B8D-89EC-693F01DE8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5200" y="496800"/>
          <a:ext cx="7775280" cy="61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496800"/>
                    <a:ext cx="7775280" cy="61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06520" y="407880"/>
          <a:ext cx="8184960" cy="65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07880"/>
                    <a:ext cx="8184960" cy="65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58720" y="399960"/>
          <a:ext cx="8221680" cy="637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399960"/>
                    <a:ext cx="822168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020600" y="754200"/>
          <a:ext cx="7209000" cy="52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754200"/>
                    <a:ext cx="7209000" cy="52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98400" y="457200"/>
          <a:ext cx="794088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57200"/>
                    <a:ext cx="7940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01560" y="469800"/>
          <a:ext cx="833760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69800"/>
                    <a:ext cx="833760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09560" y="433440"/>
          <a:ext cx="784548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33440"/>
                    <a:ext cx="784548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38280" y="746280"/>
          <a:ext cx="8361360" cy="75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746280"/>
                    <a:ext cx="8361360" cy="75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292680"/>
            <a:ext cx="8424720" cy="64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2.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cribir una función que reciba dos enteros y entregue el mayor de los dos (sin usar Math.max). Ej: int m = mayor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055520" y="684360"/>
          <a:ext cx="767088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684360"/>
                    <a:ext cx="767088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34880" y="274680"/>
          <a:ext cx="798984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74680"/>
                    <a:ext cx="798984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6227640" y="4076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850920" y="63086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25520" y="345960"/>
          <a:ext cx="8345520" cy="689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5960"/>
                    <a:ext cx="8345520" cy="689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0-03-26T17:48:29Z</dcterms:modified>
  <cp:revision>38</cp:revision>
  <dc:subject/>
  <dc:title>Sin título de diapositiva</dc:title>
</cp:coreProperties>
</file>