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246-D83B-4927-BFDB-2B0B1C35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9F6-E6BC-4544-A3A4-F33AF54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E3F-68CE-4C23-A0F3-53AFAB59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C37-A373-45D1-AF45-8E3DE62C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DFE-7959-4816-A358-85C4F0D7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6D2-DA1B-4E00-A824-8488D24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64F-990B-425F-A737-59FB966B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077-893E-4760-B50E-C9C03D21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378-78B4-4BA9-BD08-CBF198BE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921-CEDF-4F45-8205-277C0875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17F-771D-4ED7-8345-DB83A5E9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47A-58A4-4EF8-B872-5B60C53A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AED9-2527-464A-BC96-84961EE32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0-03-26T17:48:29Z</dcterms:modified>
  <cp:revision>38</cp:revision>
  <dc:subject/>
  <dc:title>Sin título de diapositiva</dc:title>
</cp:coreProperties>
</file>