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0AB-1BB9-4B71-ADF2-DF4E54F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5CF-D993-4B64-8677-0746A525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DAA-EB4A-42B1-A211-E0B4A58E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B3A-C502-4237-9390-57A03A9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D55-3543-455D-A6DC-21638AE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0B5-D25A-402A-A877-084304F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2C5-D5F2-427B-8B18-EBAF9383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E9C-E1AE-4C94-A93F-EE86C2F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D92-9F75-4570-9E93-B99569B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D74-F0B9-42F6-BECA-660865B8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17A-9A59-4128-98FD-6611C9D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21F-01CB-42DA-982A-5BF7B5F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3BB6-7EB7-432C-A51B-D059E007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0-03-26T17:48:29Z</dcterms:modified>
  <cp:revision>38</cp:revision>
  <dc:subject/>
  <dc:title>Sin título de diapositiva</dc:title>
</cp:coreProperties>
</file>