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08C-8338-4407-88FE-D08A139F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DEA-3E55-462C-9D22-AEB0D0CC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668-6C75-4970-B343-636A71B6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F3F-41C6-425E-B496-ECC3D33E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251-87ED-474A-A136-BF860659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F42-A97E-4438-AC55-DF058E19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39E-FCF7-41D3-916B-BBB1B608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758-1D3C-40BF-934A-CD321C1D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EE1-FDEB-4F8F-9DD4-8865655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BB3-1821-4784-8209-4543F08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A45-D778-4A6D-9A31-2A82A67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A8B-9EA0-4E8D-B993-BB6F739B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734-BABB-49CF-A7BB-0CD31E381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0-03-26T17:48:29Z</dcterms:modified>
  <cp:revision>38</cp:revision>
  <dc:subject/>
  <dc:title>Sin título de diapositiva</dc:title>
</cp:coreProperties>
</file>