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BF55-A232-48B3-A378-174DC8C0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507-49D3-488D-AC10-9C692F97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8AE-8ED2-443A-8369-E788EBF8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C20C-BBBA-48C7-9FEB-FE8C396C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15E4-553E-48F8-B22C-D3B2712E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5D2E-02F2-44FD-A3CC-8FD752DC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E5A-8C51-485E-B81A-CA524B34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2BD-FEA5-4BAD-A918-D78C49CA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CDD-E495-441C-AD2E-5B655165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4CB-0494-4B97-9CAF-C69CE005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F226-64C6-44B7-A814-93A7260A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2C4-3752-4196-B33F-39D72EB4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2D3C-B1B2-4A99-97B5-F515EB6C3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5200" y="496800"/>
          <a:ext cx="7775280" cy="61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496800"/>
                    <a:ext cx="7775280" cy="61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06520" y="407880"/>
          <a:ext cx="8184960" cy="65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07880"/>
                    <a:ext cx="8184960" cy="65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58720" y="399960"/>
          <a:ext cx="8221680" cy="637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399960"/>
                    <a:ext cx="822168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020600" y="754200"/>
          <a:ext cx="7209000" cy="52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754200"/>
                    <a:ext cx="7209000" cy="52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98400" y="457200"/>
          <a:ext cx="7940880" cy="64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57200"/>
                    <a:ext cx="7940880" cy="64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01560" y="469800"/>
          <a:ext cx="833760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69800"/>
                    <a:ext cx="833760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709560" y="433440"/>
          <a:ext cx="784548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33440"/>
                    <a:ext cx="784548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638280" y="746280"/>
          <a:ext cx="8361360" cy="75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746280"/>
                    <a:ext cx="8361360" cy="75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292680"/>
            <a:ext cx="8424720" cy="64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2.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cribir una función que reciba dos enteros y entregue el mayor de los dos (sin usar Math.max). Ej: int m = mayor(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055520" y="684360"/>
          <a:ext cx="767088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684360"/>
                    <a:ext cx="767088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34880" y="274680"/>
          <a:ext cx="798984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74680"/>
                    <a:ext cx="798984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6227640" y="4076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850920" y="630864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25520" y="345960"/>
          <a:ext cx="8345520" cy="689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5960"/>
                    <a:ext cx="8345520" cy="689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0-03-26T17:48:29Z</dcterms:modified>
  <cp:revision>38</cp:revision>
  <dc:subject/>
  <dc:title>Sin título de diapositiva</dc:title>
</cp:coreProperties>
</file>