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A3F4-8A42-4448-AF7B-D669119C4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06EF-2DD3-4DF3-A462-AF1A224EE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E5A0-FD9A-49FF-B51E-8008F4FBC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3776-A1B3-4197-91A8-981D02FD9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2E2E-CDB2-472A-97C5-28FF73969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0DF0-6A8E-444F-876F-15A679DC9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523F-80F2-4327-AFA4-0D19925C5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1070-595A-4F1E-9F67-7774D270E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FA95-F965-468D-AFA3-9D4B05C5A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285B-99F8-4ED0-9AD7-8C3AFCA4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D1C4-76A7-4208-B1A0-853E0F560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0B49-9942-49C5-B544-64579973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2280" indent="-266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524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9076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1916280" indent="-21276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Autofit/>
          </a:bodyPr>
          <a:lstStyle>
            <a:lvl1pPr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fld id="{85F71C2A-F84A-44AC-9C04-7CA538388E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06520" y="519120"/>
          <a:ext cx="8489880" cy="610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519120"/>
                    <a:ext cx="8489880" cy="610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31640" y="371520"/>
          <a:ext cx="8748720" cy="778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371520"/>
                    <a:ext cx="8748720" cy="778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31640" y="371520"/>
          <a:ext cx="8774280" cy="778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371520"/>
                    <a:ext cx="8774280" cy="778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19120" y="493560"/>
          <a:ext cx="8402760" cy="752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493560"/>
                    <a:ext cx="8402760" cy="752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69800" y="407880"/>
          <a:ext cx="8415360" cy="584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07880"/>
                    <a:ext cx="8415360" cy="584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69800" y="482760"/>
          <a:ext cx="8588520" cy="695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588520" cy="695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69800" y="482760"/>
          <a:ext cx="8624880" cy="695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624880" cy="695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69800" y="482760"/>
          <a:ext cx="8674200" cy="7734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674200" cy="773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69800" y="482760"/>
          <a:ext cx="8588520" cy="7103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82760"/>
                    <a:ext cx="8588520" cy="71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247680" y="345960"/>
          <a:ext cx="8859960" cy="647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680" y="345960"/>
                    <a:ext cx="8859960" cy="647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395280" y="395280"/>
          <a:ext cx="8663040" cy="768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395280"/>
                    <a:ext cx="8663040" cy="768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69800" y="630360"/>
          <a:ext cx="8674200" cy="621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630360"/>
                    <a:ext cx="8674200" cy="621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ctr">
            <a:noAutofit/>
          </a:bodyPr>
          <a:p>
            <a:pPr indent="0">
              <a:buNone/>
              <a:tabLst>
                <a:tab algn="l" pos="0"/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Lenguaje Java: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r>
              <a:rPr b="1" lang="es-ES_tradnl" sz="2200" spc="-1" strike="noStrike">
                <a:solidFill>
                  <a:srgbClr val="000000"/>
                </a:solidFill>
                <a:latin typeface="Times New Roman"/>
              </a:rPr>
              <a:t> gener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341000"/>
            <a:ext cx="8062920" cy="4754520"/>
          </a:xfrm>
          <a:prstGeom prst="rect">
            <a:avLst/>
          </a:prstGeom>
          <a:noFill/>
          <a:ln w="0">
            <a:noFill/>
          </a:ln>
        </p:spPr>
        <p:txBody>
          <a:bodyPr lIns="85320" rIns="85320" tIns="42480" bIns="42480" anchor="t">
            <a:normAutofit fontScale="97000"/>
          </a:bodyPr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pirado en idioma inglé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int, print, read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notación matemát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xpresiones: 100.0*h/(h+m), p-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unciones: print(...), readIn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intaxis (gramática, escritura) reglamen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trucciones terminan con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alabras con significados especiales (int, double, pri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so de minúsculas (salvo casos especi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9240" indent="-3092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mántica (interpretación) precisa (sin ambigüeda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1400" indent="-258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852480"/>
                <a:tab algn="l" pos="1704960"/>
                <a:tab algn="l" pos="2557440"/>
                <a:tab algn="l" pos="3409920"/>
                <a:tab algn="l" pos="4262400"/>
                <a:tab algn="l" pos="5114880"/>
                <a:tab algn="l" pos="5967360"/>
                <a:tab algn="l" pos="6819840"/>
                <a:tab algn="l" pos="7672320"/>
                <a:tab algn="l" pos="8524800"/>
                <a:tab algn="l" pos="9377280"/>
                <a:tab algn="l" pos="1022976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strucciones con significado/efecto bien defi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66800" y="901800"/>
          <a:ext cx="7610400" cy="502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901800"/>
                    <a:ext cx="76104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03280" y="908280"/>
            <a:ext cx="8640720" cy="49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h = U.readInt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un número entero  desde el teclado y lo guarda en la variable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ival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h; //decla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 = U.readInt(); //lec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fr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un comentario que contiene observaciones de utilidad para el programador, pero que es ignorado por el computador al ejecut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instrucciones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444600" y="482760"/>
          <a:ext cx="8575560" cy="618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82760"/>
                    <a:ext cx="8575560" cy="61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24000" y="200160"/>
            <a:ext cx="8569080" cy="59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 = U.readInt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un nº entero y lo guarda en la variable 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taxi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riable = U.readTip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adTipo(): readInt() o readDouble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mántic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º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étodo (función)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.readInt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pera que el usuario ingrese un número (dígitos y en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e (obtiene) el núm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ega el número como resul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AutoNum type="arabicPeriod"/>
              <a:tabLst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º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úmero se guarda en (asigna a ) la variable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600880"/>
                <a:tab algn="l" pos="61722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617400" y="531720"/>
          <a:ext cx="8340840" cy="820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531720"/>
                    <a:ext cx="8340840" cy="820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4T19:55:34Z</dcterms:created>
  <dc:creator>jalvarez</dc:creator>
  <dc:description/>
  <dc:language>en-US</dc:language>
  <cp:lastModifiedBy>jalvarez</cp:lastModifiedBy>
  <cp:lastPrinted>2006-03-07T16:10:21Z</cp:lastPrinted>
  <dcterms:modified xsi:type="dcterms:W3CDTF">2010-03-17T19:28:53Z</dcterms:modified>
  <cp:revision>84</cp:revision>
  <dc:subject/>
  <dc:title>Sin título de diapositiva</dc:title>
</cp:coreProperties>
</file>