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070-DF2F-48FB-900B-FCBB2543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DF7-8672-4B39-8B45-47BA97AD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9CB4-35DD-4B8A-BF5D-38153B5A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72C7-2F9A-4D51-B2DE-4A54BB6F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E98-EC31-44D6-9699-7B527399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DAB-CD88-49A2-A3A1-10C534BF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EE9-535E-405F-A652-86B49476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347-4155-48E5-8DE8-8BB89E0F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04D0-B8C7-43FC-81BD-14A7F153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302C-EEB0-4646-A861-8BB89B7F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1695-BFDF-4FF7-8E40-44F5C4FC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5EC-1C38-48AD-9525-9FD06C96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F73C9D18-E2D9-4F17-96C3-E6B77C4118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6520" y="519120"/>
          <a:ext cx="8489880" cy="61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19120"/>
                    <a:ext cx="8489880" cy="61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1640" y="371520"/>
          <a:ext cx="874872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4872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31640" y="371520"/>
          <a:ext cx="877428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7428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19120" y="493560"/>
          <a:ext cx="8402760" cy="75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02760" cy="75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407880"/>
          <a:ext cx="841536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1536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82760"/>
          <a:ext cx="862488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2488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82760"/>
          <a:ext cx="8674200" cy="77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7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82760"/>
          <a:ext cx="8588520" cy="710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1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47680" y="345960"/>
          <a:ext cx="8859960" cy="647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45960"/>
                    <a:ext cx="8859960" cy="647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395280"/>
          <a:ext cx="866304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6304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3280" y="90828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 //lec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200160"/>
            <a:ext cx="856908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entero y lo guarda en la variable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40840" cy="820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40840" cy="820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0-03-17T19:28:53Z</dcterms:modified>
  <cp:revision>84</cp:revision>
  <dc:subject/>
  <dc:title>Sin título de diapositiva</dc:title>
</cp:coreProperties>
</file>