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0FF-3AD8-4DA9-85B7-5DCC733CF8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C79D-7E67-452E-8628-19879572F2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F48-11EE-4706-85BB-AD3EC16C5A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1C9-9791-4FB1-BF03-382BEB90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8E9-5AA7-4B80-90DD-48050E34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E9F-9654-4FAD-867C-ACD8A32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9BE-007C-4DF9-94AE-9BFFAC06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16D-CBB6-45FA-B79C-F1954CC2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35D-32EE-42B8-99D6-BCF92CB5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BE3-5FBB-4104-B676-7BF1578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F2A-E925-4309-97DC-D4DADEF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A32-D7C0-4394-8907-8C90616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0D0-E0F0-4AC7-983A-206FCA7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39E-AC9C-45B2-955A-F9AD1DB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1C8-FB63-4CA0-9F16-EFE1066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C47-F8C2-42CD-9E1A-12D51790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baloian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10-03-20T19:17:23Z</dcterms:modified>
  <cp:revision>27</cp:revision>
  <dc:subject/>
  <dc:title>Un curso intensivo de Introducción a la Programación Orientada a Objetos en Java  para estudiantes de secundaria </dc:title>
</cp:coreProperties>
</file>