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8CAF-5705-4AAD-AD82-3327233142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CE6A-E3BA-454F-A3E5-9318A7BF56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4C24-0D65-4C6E-9B4C-ED34A35F2F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C03-CA3B-46C3-8339-B1657323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F0C-519A-4B9C-9A72-0A480D1F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18C-A913-48DA-BC2B-9E30238B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3E5-E977-4566-89F5-EFB769D1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F5B-96E8-4F35-AD4C-9650440C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CF6-BF35-47E1-9536-AADBE7E5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FE7-E6A0-4EA5-9546-AEA0AE25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457-9D28-4A46-856D-A6F36DEA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BBF-9114-4762-AED8-10FD51AC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D33-C5FF-4B4B-84A8-B2CF8F99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C5D-6A78-4B5B-AA9A-DF1362C9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410-F4EA-4074-AA9D-965228D9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1745-BE16-4926-A825-1647411BE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elson Balo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baloian@g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nbaloian</cp:lastModifiedBy>
  <cp:lastPrinted>2006-03-02T13:33:10Z</cp:lastPrinted>
  <dcterms:modified xsi:type="dcterms:W3CDTF">2010-03-20T19:17:23Z</dcterms:modified>
  <cp:revision>27</cp:revision>
  <dc:subject/>
  <dc:title>Un curso intensivo de Introducción a la Programación Orientada a Objetos en Java  para estudiantes de secundaria </dc:title>
</cp:coreProperties>
</file>