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mputación I: Int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4FC48-05C4-4162-9D0E-1CA85CF8EDA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mputación I: Int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97D55-DDC6-4566-A568-18BCBA1089E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mputación I: Int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DF4E7-A828-4DF9-A3B0-56C42CE35F2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C3D4-B172-44B7-81E7-79606DF8A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4A2A-8DD2-421A-8820-E39023521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BF06-B24F-47EF-A44E-B07B1667B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9CC4-4366-4E85-94E4-D6F512EC0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000B-3C1C-42C1-827E-ECACFF4C6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59D9-F776-44E2-BD05-265AF545E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4A41-442B-46B9-BC4B-B91D0997E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EB96-0B9E-4D24-8718-713D1FAB6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7C39-C1C5-4995-A2D9-5BA006CC6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25DB-2A94-4404-B0B7-AD84F50A8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B95E-5822-475A-9A33-C5B014732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66F7-B6DE-4A2D-9BBF-B6A5CE9F6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15222-6FDD-4DF1-87C1-F887D80B59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C1001- Computación I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Nelson Baloi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pto Ciencias de la Compu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nbaloian@gmail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C1001- Computación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5486400" y="1828800"/>
            <a:ext cx="3048120" cy="19051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u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Oval 7"/>
          <p:cNvSpPr/>
          <p:nvPr/>
        </p:nvSpPr>
        <p:spPr>
          <a:xfrm>
            <a:off x="4876920" y="3962520"/>
            <a:ext cx="38088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8"/>
          <p:cNvSpPr/>
          <p:nvPr/>
        </p:nvSpPr>
        <p:spPr>
          <a:xfrm>
            <a:off x="50292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9"/>
          <p:cNvSpPr/>
          <p:nvPr/>
        </p:nvSpPr>
        <p:spPr>
          <a:xfrm flipV="1">
            <a:off x="5105520" y="4495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0"/>
          <p:cNvSpPr/>
          <p:nvPr/>
        </p:nvSpPr>
        <p:spPr>
          <a:xfrm>
            <a:off x="5105520" y="480060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1"/>
          <p:cNvSpPr/>
          <p:nvPr/>
        </p:nvSpPr>
        <p:spPr>
          <a:xfrm flipV="1">
            <a:off x="4952880" y="5410080"/>
            <a:ext cx="7621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2"/>
          <p:cNvSpPr/>
          <p:nvPr/>
        </p:nvSpPr>
        <p:spPr>
          <a:xfrm>
            <a:off x="5715000" y="5410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3"/>
          <p:cNvSpPr/>
          <p:nvPr/>
        </p:nvSpPr>
        <p:spPr>
          <a:xfrm flipV="1">
            <a:off x="4952880" y="51811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14"/>
          <p:cNvSpPr/>
          <p:nvPr/>
        </p:nvSpPr>
        <p:spPr>
          <a:xfrm>
            <a:off x="5334120" y="5181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5"/>
          <p:cNvSpPr/>
          <p:nvPr/>
        </p:nvSpPr>
        <p:spPr>
          <a:xfrm>
            <a:off x="1143000" y="5410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18"/>
          <p:cNvSpPr/>
          <p:nvPr/>
        </p:nvSpPr>
        <p:spPr>
          <a:xfrm>
            <a:off x="342900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20"/>
          <p:cNvSpPr/>
          <p:nvPr/>
        </p:nvSpPr>
        <p:spPr>
          <a:xfrm flipH="1">
            <a:off x="304200" y="1752480"/>
            <a:ext cx="4647960" cy="1905120"/>
          </a:xfrm>
          <a:prstGeom prst="cloudCallout">
            <a:avLst>
              <a:gd name="adj1" fmla="val -44467"/>
              <a:gd name="adj2" fmla="val 699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1"/>
          <p:cNvSpPr/>
          <p:nvPr/>
        </p:nvSpPr>
        <p:spPr>
          <a:xfrm>
            <a:off x="380880" y="1717560"/>
            <a:ext cx="485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azonamiento algorítmico/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pacidad modelamiento/abst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abilidad gral resolver 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Oval 23"/>
          <p:cNvSpPr/>
          <p:nvPr/>
        </p:nvSpPr>
        <p:spPr>
          <a:xfrm>
            <a:off x="5562720" y="434340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24"/>
          <p:cNvSpPr/>
          <p:nvPr/>
        </p:nvSpPr>
        <p:spPr>
          <a:xfrm>
            <a:off x="5715000" y="4800600"/>
            <a:ext cx="1066680" cy="228600"/>
          </a:xfrm>
          <a:prstGeom prst="parallelogram">
            <a:avLst>
              <a:gd name="adj" fmla="val 116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" name="AutoShape 27"/>
          <p:cNvCxnSpPr>
            <a:stCxn id="64" idx="6"/>
          </p:cNvCxnSpPr>
          <p:nvPr/>
        </p:nvCxnSpPr>
        <p:spPr>
          <a:xfrm flipV="1">
            <a:off x="5790960" y="3809520"/>
            <a:ext cx="153000" cy="6105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" name="AutoShape 28"/>
          <p:cNvCxnSpPr>
            <a:stCxn id="65" idx="0"/>
            <a:endCxn id="51" idx="2"/>
          </p:cNvCxnSpPr>
          <p:nvPr/>
        </p:nvCxnSpPr>
        <p:spPr>
          <a:xfrm flipH="1" flipV="1" rot="5400000">
            <a:off x="6162480" y="3952440"/>
            <a:ext cx="1067400" cy="62928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8" name="Text Box 29"/>
          <p:cNvSpPr/>
          <p:nvPr/>
        </p:nvSpPr>
        <p:spPr>
          <a:xfrm>
            <a:off x="6781680" y="54864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olu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30"/>
          <p:cNvSpPr/>
          <p:nvPr/>
        </p:nvSpPr>
        <p:spPr>
          <a:xfrm>
            <a:off x="609588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pecíf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cribir programas que resuelvan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 largo plazo (propósi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azonamientos algorítmico y ló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pacidades de abstracción y modelamien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abilidad general para 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nteni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. Fundamentos de progra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2. Programación orientada a obje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. Listas y tablas de val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4. Computación numé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5. Búsqueda y ordenamiento de infor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611280" y="189000"/>
            <a:ext cx="7489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468360" y="836640"/>
            <a:ext cx="8424720" cy="52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F (nota final): 70%NC+30%NT (NC,NT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T (nota tareas): promedio 5 tareas (1 por ca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Si 3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NT&lt;4 y NC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4, NF=I + tarea ext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C (nota control): prom ponderado contro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971640" y="3309840"/>
          <a:ext cx="6985080" cy="2808360"/>
        </p:xfrm>
        <a:graphic>
          <a:graphicData uri="http://schemas.openxmlformats.org/drawingml/2006/table">
            <a:tbl>
              <a:tblPr/>
              <a:tblGrid>
                <a:gridCol w="1523880"/>
                <a:gridCol w="1932120"/>
                <a:gridCol w="1584360"/>
                <a:gridCol w="1944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id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m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y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a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468360" y="1981080"/>
            <a:ext cx="4103640" cy="46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evalúan entre 1 y 4 (%=0,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3,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66,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e considera promedi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los 20 mejores (de 2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i tiene menos de 20, NF=I + tarea(s) extra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irven para eximi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examen de acuerdo a la sgte tabl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648320" y="1981080"/>
          <a:ext cx="3809880" cy="4556160"/>
        </p:xfrm>
        <a:graphic>
          <a:graphicData uri="http://schemas.openxmlformats.org/drawingml/2006/table">
            <a:tbl>
              <a:tblPr/>
              <a:tblGrid>
                <a:gridCol w="1904760"/>
                <a:gridCol w="190512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medio c1,c2,c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med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jercici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alquie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8:57:29Z</dcterms:created>
  <dc:creator>jalvarez</dc:creator>
  <dc:description/>
  <dc:language>en-US</dc:language>
  <cp:lastModifiedBy>nbaloian</cp:lastModifiedBy>
  <cp:lastPrinted>2006-03-02T13:33:10Z</cp:lastPrinted>
  <dcterms:modified xsi:type="dcterms:W3CDTF">2010-03-20T19:17:23Z</dcterms:modified>
  <cp:revision>27</cp:revision>
  <dc:subject/>
  <dc:title>Un curso intensivo de Introducción a la Programación Orientada a Objetos en Java  para estudiantes de secundaria </dc:title>
</cp:coreProperties>
</file>