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15FE-6F00-4C1C-9624-FEAF45CB0E2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7CE6-855B-4255-BFFB-BF9F59F663B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1082-71B3-4B31-9876-7B56D6AA210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90AD-6277-4F03-949F-35E4F3EE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01D1-F23F-4376-BE8D-812B4E90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DEB-77F5-4E0E-942C-C73BFA79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4783-6A87-4F4F-A4A2-B4D80AB8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2EE4-9A32-4CB9-B3A2-FE3BD99A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C919-709E-499D-BFEA-A135DB5F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F7E6-5730-44A5-9DA9-C8943670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7C56-B534-4750-B981-D8DD36DD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B331-EAA1-4CD1-807D-62E2A609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0F98-6199-46DC-8C20-31BFA7C0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002F-0CCA-4522-A687-1C894B8B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7C02-57A5-475D-AB37-F1B77188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5407-2A9E-4D3C-A76A-8E466D960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elson Balo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baloian@gmail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7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1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3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0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23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AutoShape 27"/>
          <p:cNvCxnSpPr>
            <a:stCxn id="64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" name="AutoShape 28"/>
          <p:cNvCxnSpPr>
            <a:stCxn id="65" idx="0"/>
            <a:endCxn id="51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8" name="Text Box 29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0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 ex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g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nbaloian</cp:lastModifiedBy>
  <cp:lastPrinted>2006-03-02T13:33:10Z</cp:lastPrinted>
  <dcterms:modified xsi:type="dcterms:W3CDTF">2010-03-20T19:17:23Z</dcterms:modified>
  <cp:revision>27</cp:revision>
  <dc:subject/>
  <dc:title>Un curso intensivo de Introducción a la Programación Orientada a Objetos en Java  para estudiantes de secundaria </dc:title>
</cp:coreProperties>
</file>